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D898-0A0E-4053-ADFE-13ECC153C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7D8C-35E0-453D-859E-C93634FA2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96F6-5D3A-4F09-929E-9330A2F83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DF74-B513-445A-BD9E-33CC123C3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69F2-8F3E-4D8B-92A5-BE8A85601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D9D-5C3B-4097-AA47-46667C34B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F764-CCCC-4555-9341-173D95086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2D6-7700-42A8-BBD6-BC090E5F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47D-7FDF-431D-B6F7-8A8E2D5B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7E8-F49A-4D35-85CB-3E440310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23D-8061-4202-943C-9A9DB4D3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7AF-0C31-4372-BC68-5EA92458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2DF-36E1-458D-88C9-DDF7302C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569-A60F-46E5-8153-BCA4CD9B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1F0-4102-4A8A-9C24-B3B420BE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E31-FEA3-40FE-BCA2-0A9FE113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002-E246-4AE7-87C4-C743209B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BB9-9643-4B32-98BE-46674895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001-C7DD-4BC7-BEDB-BC0E0261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848F-C3A8-4CE5-BFE8-CCFE1EBAC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political powers are at a central level under this form of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19051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dea that government must operate within certain bounds set by the people refers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mited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ending the nation, insuring tranquility and promoting general welfare is all included i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ambl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document directly influenced the Framers when drafting the Constitu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s of Confeder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 consists largel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aints of the wrongs done to coloni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ll influenced the formation of the Constit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merican gover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6668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1219320"/>
            <a:ext cx="63244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gna Car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glish Bill of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lightment Philosophers: Locke, Hobbes, Montesqui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s of Confede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mplied powers are based on the cl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cessary and Proper Cl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the Words 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the Peopl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he Constitution establish authority through the principl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Sovereign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individual freedoms were not added until after ratification of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ll of Righ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ce ratified a constitutional amendment may only be changed b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3864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other amend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credited with the writing of the Constitu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mes Mad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s power to veto an act of Congress is an exampl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0" y="76212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the following Federalism does not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Allow local Gov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handle local concer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. Create a dual system of government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. Create uniform laws for all state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Create strength through uni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 Uniform Laws For All Stat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urrent powers are those that ar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rcised by National and State Govern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Forms of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rigin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ederal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first three articles of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2096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: Legislative Bra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I: Executive Bra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II: Judicial Bran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governments are subunit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ining money is an example of this powe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ressed Power – National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ss of approving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divided between three independent branches of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ion of pow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1828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is divided between a central and local governments in this form of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26668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greement appealed to both big and small states and settled the debate over state representation in 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143000" y="2743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 Com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0" y="2666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form of government that gives the power directly to the people to creat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ed officials represent the people in the creation of laws and operating of government i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57200" y="26668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egislative branch has the power to impeach judges.  This is an example of which of the 6 principles of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in reason the Constitution has endured 200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visions For Change (Amendment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eralis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argued that humans must submit some power and freedom to the government due to the innate evil nature of all huma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omas Hobb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trong central government was supported and argued for by this group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3623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believed that if government was tyrannical and not protecting the peopl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s, then the it is the job of the people to revol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Lock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Princip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American system of government protect and guarantee our rights and freedom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characteristics of a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95280" y="12193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ri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vereign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minant political unit in the world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10-10T16:10:36Z</dcterms:modified>
  <cp:revision>62</cp:revision>
  <dc:subject/>
  <dc:title>No Slide Title</dc:title>
</cp:coreProperties>
</file>