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F014-6A76-4C88-8493-3C7A6DAFC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6FA-43F5-4DDD-AD77-756CE38D1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A83C-9020-4D49-8BAD-AC8D343F4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9F4B-271A-4613-B371-2780FD1D5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84F6-E521-42C5-9436-3109C1DAC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D09C-1741-4232-B0F3-2118DF6C3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C549-ED5B-4F5E-A64D-5D6B187A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5D2-DE1C-43E2-8572-04BE4179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1F9-AEDA-4F1B-893A-08A4C7A1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030-3017-4ED9-997D-E49B9D30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673-C9E7-4394-BDAC-07152979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38F-C6F5-4007-A51A-128B8F89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52B-8C7E-427D-B2B3-D6441B26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DA0-8838-469E-9E36-32C4EDD1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B90-E698-483F-9FCD-DDD54BED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347-8DD1-4D38-A50B-7482E111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29A-536E-4EC6-A867-FCAC796A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E70-2CFE-41CC-8A42-7AAECD63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69E-7C54-4E10-B4C5-5343DA5A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B9D5-81C8-4BF8-A69B-1D5291A37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political powers are at a central level under this form of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a that government must operate within certain bounds set by the people refers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ed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ending the nation, insuring tranquility and promoting general welfare is all included i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ambl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document directly influenced the Framers when drafting the 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 consists largel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aints of the wrongs done to colon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ll influenced the formation of the Constit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merican gover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1219320"/>
            <a:ext cx="63244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a C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glish Bill of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lightment Philosophers: Locke, Hobbes, Montesqui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mplied powers are based on the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e Words 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he Constitution establish authority through the princi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individual freedoms were not added until after ratification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ce ratified a constitutional amendment may only be changed b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other amend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credited with the writing of the Constitu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mes Mad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s power to veto an act of Congress is an exam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76212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the following Federalism does not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Allow local Gov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handle local concer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. Create a dual system of government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 Create uniform laws for all state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Create strength through uni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 Uniform Laws For All Stat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urrent powers are those that ar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rcised by National and State Govern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orms of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rigi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ederal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first three articles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2096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: Legisla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: Execu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I: Judicial Bran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governments are subuni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ining money is an example of this pow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ed Power – National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of approving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divided between three independent branches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ion of pow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is divided between a central and local governments in this form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26668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greement appealed to both big and small states and settled the debate over state representation in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 Com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0" y="2666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form of government that gives the power directly to the people to creat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ed officials represent the people in the creation of laws and operating of government i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57200" y="26668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egislative branch has the power to impeach judges.  This is an example of which of the 6 principles of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reason the Constitution has endured 200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sions For Change (Amendment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er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argued that humans must submit some power and freedom to the government due to the innate evil nature of all huma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omas Hobb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rong central government was supported and argued for by this group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believed that if government was tyrannical and not protecting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, then the it is the job of the people to revol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Lock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American system of government protect and guarantee our rights and freedom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characteristics of a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2193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ri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minant political unit in the world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0-10T16:10:36Z</dcterms:modified>
  <cp:revision>62</cp:revision>
  <dc:subject/>
  <dc:title>No Slide Title</dc:title>
</cp:coreProperties>
</file>