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Jeopardy.wav" ContentType="audio/x-wav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93BE-4709-4FB2-89B1-03EBF3C1B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01A19-C118-473D-A96F-DC55978005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4F72B-FA91-4133-8134-D47EA1C89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67865-5C62-4955-912F-EA4E9CFC6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48A9-C1F6-4C91-9425-2C79521DE8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5FBB-7AC3-4435-8ECC-5DDF56648D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913E8-B26D-4AA9-954A-0359FD26C6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5D1F-D919-4CCD-B00A-9234A850A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E89E-316A-428C-BF81-9FB2DB725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CF25-F0F6-41A1-A538-C54878893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2E37-1A05-4FB3-A14D-7D75C3944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2A26-45A4-4202-8BA7-9ECB96B6B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ED0A-D005-4A98-BE2D-DED432448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514E-A750-4460-9BDE-C910131A3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08D0-6788-44AA-8749-D5B37C8C7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A1C9-F8FE-451D-9ECD-6BFD5E67D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803F-9B77-49A0-8264-FB76E133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C588-D235-4150-A4B9-6FAC88EB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DD9C-92B0-4523-BD9B-7292CC45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88E82-4CBC-4A37-B48F-E5F4980A32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25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36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" Target="slide46.xml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slide" Target="slide56.xml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7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17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slide" Target="slide27.xml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38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48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58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slide" Target="slide9.xml"/><Relationship Id="rId38" Type="http://schemas.openxmlformats.org/officeDocument/2006/relationships/image" Target="../media/image2.png"/><Relationship Id="rId39" Type="http://schemas.openxmlformats.org/officeDocument/2006/relationships/image" Target="../media/image1.png"/><Relationship Id="rId40" Type="http://schemas.openxmlformats.org/officeDocument/2006/relationships/slide" Target="slide19.xml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slide" Target="slide29.xml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40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slide" Target="slide50.xml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" Target="slide60.xml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slide" Target="slide11.xml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slide" Target="slide21.xml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slide" Target="slide31.xml"/><Relationship Id="rId62" Type="http://schemas.openxmlformats.org/officeDocument/2006/relationships/image" Target="../media/image2.png"/><Relationship Id="rId63" Type="http://schemas.openxmlformats.org/officeDocument/2006/relationships/image" Target="../media/image1.png"/><Relationship Id="rId64" Type="http://schemas.openxmlformats.org/officeDocument/2006/relationships/slide" Target="slide42.xml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slide" Target="slide52.xml"/><Relationship Id="rId68" Type="http://schemas.openxmlformats.org/officeDocument/2006/relationships/image" Target="../media/image2.png"/><Relationship Id="rId69" Type="http://schemas.openxmlformats.org/officeDocument/2006/relationships/image" Target="../media/image1.png"/><Relationship Id="rId70" Type="http://schemas.openxmlformats.org/officeDocument/2006/relationships/slide" Target="slide62.xml"/><Relationship Id="rId71" Type="http://schemas.openxmlformats.org/officeDocument/2006/relationships/image" Target="../media/image2.png"/><Relationship Id="rId72" Type="http://schemas.openxmlformats.org/officeDocument/2006/relationships/image" Target="../media/image1.png"/><Relationship Id="rId73" Type="http://schemas.openxmlformats.org/officeDocument/2006/relationships/slide" Target="slide13.xml"/><Relationship Id="rId74" Type="http://schemas.openxmlformats.org/officeDocument/2006/relationships/image" Target="../media/image2.png"/><Relationship Id="rId75" Type="http://schemas.openxmlformats.org/officeDocument/2006/relationships/image" Target="../media/image1.png"/><Relationship Id="rId76" Type="http://schemas.openxmlformats.org/officeDocument/2006/relationships/slide" Target="slide23.xml"/><Relationship Id="rId77" Type="http://schemas.openxmlformats.org/officeDocument/2006/relationships/image" Target="../media/image2.png"/><Relationship Id="rId78" Type="http://schemas.openxmlformats.org/officeDocument/2006/relationships/image" Target="../media/image1.png"/><Relationship Id="rId79" Type="http://schemas.openxmlformats.org/officeDocument/2006/relationships/slide" Target="slide34.xml"/><Relationship Id="rId80" Type="http://schemas.openxmlformats.org/officeDocument/2006/relationships/image" Target="../media/image2.png"/><Relationship Id="rId81" Type="http://schemas.openxmlformats.org/officeDocument/2006/relationships/image" Target="../media/image1.png"/><Relationship Id="rId82" Type="http://schemas.openxmlformats.org/officeDocument/2006/relationships/slide" Target="slide44.xml"/><Relationship Id="rId83" Type="http://schemas.openxmlformats.org/officeDocument/2006/relationships/image" Target="../media/image2.png"/><Relationship Id="rId84" Type="http://schemas.openxmlformats.org/officeDocument/2006/relationships/image" Target="../media/image1.png"/><Relationship Id="rId85" Type="http://schemas.openxmlformats.org/officeDocument/2006/relationships/slide" Target="slide54.xml"/><Relationship Id="rId86" Type="http://schemas.openxmlformats.org/officeDocument/2006/relationships/image" Target="../media/image2.png"/><Relationship Id="rId87" Type="http://schemas.openxmlformats.org/officeDocument/2006/relationships/image" Target="../media/image1.png"/><Relationship Id="rId88" Type="http://schemas.openxmlformats.org/officeDocument/2006/relationships/slide" Target="slide64.xml"/><Relationship Id="rId89" Type="http://schemas.openxmlformats.org/officeDocument/2006/relationships/image" Target="../media/image2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1.png"/><Relationship Id="rId95" Type="http://schemas.openxmlformats.org/officeDocument/2006/relationships/image" Target="../media/image1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3.png"/><Relationship Id="rId98" Type="http://schemas.openxmlformats.org/officeDocument/2006/relationships/oleObject" Target="../embeddings/oleObject1.bin"/><Relationship Id="rId99" Type="http://schemas.openxmlformats.org/officeDocument/2006/relationships/slide" Target="slide66.xml"/><Relationship Id="rId100" Type="http://schemas.openxmlformats.org/officeDocument/2006/relationships/image" Target="../media/image4.png"/><Relationship Id="rId101" Type="http://schemas.openxmlformats.org/officeDocument/2006/relationships/slideLayout" Target="../slideLayouts/slideLayout1.xml"/><Relationship Id="rId10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t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ll political powers are at a central level under this form of governme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nitar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1371600" y="190512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idea that government must operate within certain bounds set by the people refers t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imited Governme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1295280" y="1828800"/>
            <a:ext cx="6324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fending the nation, insuring tranquility and promoting general welfare is all included in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Preambl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document directly influenced the Framers when drafting the Constitution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rticles of Confederation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Declaration of Independence consists largely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plaints of the wrongs done to colonist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all influenced the formation of the Constitu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American governm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990720" y="2666880"/>
            <a:ext cx="7086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1371600" y="1219320"/>
            <a:ext cx="632448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gna Car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nglish Bill of Righ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nlightment Philosophers: Locke, Hobbes, Montesqui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rticles of Confeder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implied powers are based on the claus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ecessary and Proper Claus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838080" y="2666880"/>
            <a:ext cx="7391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ith the Words </a:t>
            </a:r>
            <a:r>
              <a:rPr b="0" lang="ja-JP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e the People</a:t>
            </a:r>
            <a:r>
              <a:rPr b="0" lang="ja-JP" sz="40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the Constitution establish authority through the principle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opular Sovereignt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1295280" y="190512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se individual freedoms were not added until after ratification of the Constitu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ill of Right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1371600" y="175248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nce ratified a constitutional amendment may only be changed by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Welcome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Contestants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648320" y="1143000"/>
            <a:ext cx="4190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oday</a:t>
            </a:r>
            <a:r>
              <a:rPr b="0" lang="ja-JP" sz="6000" spc="-1" strike="noStrike">
                <a:solidFill>
                  <a:srgbClr val="ffffff"/>
                </a:solidFill>
                <a:latin typeface="Arial Black"/>
              </a:rPr>
              <a:t>’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s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609480" y="4238640"/>
            <a:ext cx="79534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Government Class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other amendme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1371600" y="266688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is credited with the writing of the Constitut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James Mad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presidents power to veto an act of Congress is an example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hecks and Balanc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0" y="76212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f the following Federalism does not –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. Allow local Gov</a:t>
            </a:r>
            <a:r>
              <a:rPr b="0" lang="ja-JP" sz="40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 handle local concer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. Create a dual system of government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. Create uniform laws for all states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. Create strength through unity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685800" y="266688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reate Uniform Laws For All State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457200" y="266688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current powers are those that ar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xercised by National and State Government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screenj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45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99" descr="blue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0" descr="screenj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Text Box 101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2" descr="blue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3" descr="screenj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4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5" descr="blue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6" descr="screenj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 Box 107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08" descr="blue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9" descr="screenj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Text Box 110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11" descr="blue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2" descr="screenj"/>
          <p:cNvPicPr/>
          <p:nvPr/>
        </p:nvPicPr>
        <p:blipFill>
          <a:blip r:embed="rId15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Text Box 113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4" descr="blue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5" descr="screenj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116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17" descr="blue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8" descr="screenj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119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20" descr="blue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1" descr="screenj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22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3" descr="blue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4" descr="screenj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Text Box 125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26" descr="blue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7" descr="screenj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Text Box 128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9" descr="blue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0" descr="screenj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Text Box 131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32" descr="blue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3" descr="screenj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Text Box 134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35" descr="blue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6" descr="screenj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137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38" descr="blue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9" descr="screenj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Text Box 140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41" descr="blue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2" descr="screenj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Text Box 143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44" descr="blue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5" descr="screenj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46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47" descr="blue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8" descr="screenj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7" name="Text Box 149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50" descr="blue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1" descr="screenj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152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53" descr="blue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4" descr="screenj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Text Box 155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56" descr="blue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7" descr="screenj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Text Box 158"/>
          <p:cNvSpPr/>
          <p:nvPr/>
        </p:nvSpPr>
        <p:spPr>
          <a:xfrm>
            <a:off x="3290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1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59" descr="blue"/>
          <p:cNvPicPr/>
          <p:nvPr/>
        </p:nvPicPr>
        <p:blipFill>
          <a:blip r:embed="rId62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0" descr="screenj"/>
          <p:cNvPicPr/>
          <p:nvPr/>
        </p:nvPicPr>
        <p:blipFill>
          <a:blip r:embed="rId63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Text Box 161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62" descr="blue"/>
          <p:cNvPicPr/>
          <p:nvPr/>
        </p:nvPicPr>
        <p:blipFill>
          <a:blip r:embed="rId65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3" descr="screenj"/>
          <p:cNvPicPr/>
          <p:nvPr/>
        </p:nvPicPr>
        <p:blipFill>
          <a:blip r:embed="rId66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164"/>
          <p:cNvSpPr/>
          <p:nvPr/>
        </p:nvSpPr>
        <p:spPr>
          <a:xfrm>
            <a:off x="6338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7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65" descr="blue"/>
          <p:cNvPicPr/>
          <p:nvPr/>
        </p:nvPicPr>
        <p:blipFill>
          <a:blip r:embed="rId68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6" descr="screenj"/>
          <p:cNvPicPr/>
          <p:nvPr/>
        </p:nvPicPr>
        <p:blipFill>
          <a:blip r:embed="rId69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Text Box 167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0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68" descr="blue"/>
          <p:cNvPicPr/>
          <p:nvPr/>
        </p:nvPicPr>
        <p:blipFill>
          <a:blip r:embed="rId71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9" descr="screenj"/>
          <p:cNvPicPr/>
          <p:nvPr/>
        </p:nvPicPr>
        <p:blipFill>
          <a:blip r:embed="rId72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Text Box 170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71" descr="blue"/>
          <p:cNvPicPr/>
          <p:nvPr/>
        </p:nvPicPr>
        <p:blipFill>
          <a:blip r:embed="rId74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2" descr="screenj"/>
          <p:cNvPicPr/>
          <p:nvPr/>
        </p:nvPicPr>
        <p:blipFill>
          <a:blip r:embed="rId75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1" name="Text Box 173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74" descr="blue"/>
          <p:cNvPicPr/>
          <p:nvPr/>
        </p:nvPicPr>
        <p:blipFill>
          <a:blip r:embed="rId77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5" descr="screenj"/>
          <p:cNvPicPr/>
          <p:nvPr/>
        </p:nvPicPr>
        <p:blipFill>
          <a:blip r:embed="rId78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4" name="Text Box 176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9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77" descr="blue"/>
          <p:cNvPicPr/>
          <p:nvPr/>
        </p:nvPicPr>
        <p:blipFill>
          <a:blip r:embed="rId80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8" descr="screenj"/>
          <p:cNvPicPr/>
          <p:nvPr/>
        </p:nvPicPr>
        <p:blipFill>
          <a:blip r:embed="rId81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7" name="Text Box 179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80" descr="blue"/>
          <p:cNvPicPr/>
          <p:nvPr/>
        </p:nvPicPr>
        <p:blipFill>
          <a:blip r:embed="rId83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1" descr="screenj"/>
          <p:cNvPicPr/>
          <p:nvPr/>
        </p:nvPicPr>
        <p:blipFill>
          <a:blip r:embed="rId84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0" name="Text Box 182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5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83" descr="blue"/>
          <p:cNvPicPr/>
          <p:nvPr/>
        </p:nvPicPr>
        <p:blipFill>
          <a:blip r:embed="rId86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4" descr="screenj"/>
          <p:cNvPicPr/>
          <p:nvPr/>
        </p:nvPicPr>
        <p:blipFill>
          <a:blip r:embed="rId87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3" name="Text Box 185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86" descr="blue"/>
          <p:cNvPicPr/>
          <p:nvPr/>
        </p:nvPicPr>
        <p:blipFill>
          <a:blip r:embed="rId89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7" descr="screenj"/>
          <p:cNvPicPr/>
          <p:nvPr/>
        </p:nvPicPr>
        <p:blipFill>
          <a:blip r:embed="rId90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6" name="Picture 190" descr="screenj"/>
          <p:cNvPicPr/>
          <p:nvPr/>
        </p:nvPicPr>
        <p:blipFill>
          <a:blip r:embed="rId91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Picture 193" descr="screenj"/>
          <p:cNvPicPr/>
          <p:nvPr/>
        </p:nvPicPr>
        <p:blipFill>
          <a:blip r:embed="rId92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Picture 196" descr="screenj"/>
          <p:cNvPicPr/>
          <p:nvPr/>
        </p:nvPicPr>
        <p:blipFill>
          <a:blip r:embed="rId93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Picture 199" descr="screenj"/>
          <p:cNvPicPr/>
          <p:nvPr/>
        </p:nvPicPr>
        <p:blipFill>
          <a:blip r:embed="rId94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Picture 202" descr="screenj"/>
          <p:cNvPicPr/>
          <p:nvPr/>
        </p:nvPicPr>
        <p:blipFill>
          <a:blip r:embed="rId95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1" name="Text Box 205"/>
          <p:cNvSpPr/>
          <p:nvPr/>
        </p:nvSpPr>
        <p:spPr>
          <a:xfrm>
            <a:off x="76320" y="1219320"/>
            <a:ext cx="144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Forms of Gover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06"/>
          <p:cNvSpPr/>
          <p:nvPr/>
        </p:nvSpPr>
        <p:spPr>
          <a:xfrm>
            <a:off x="1600200" y="121932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Origins o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Gover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07"/>
          <p:cNvSpPr/>
          <p:nvPr/>
        </p:nvSpPr>
        <p:spPr>
          <a:xfrm>
            <a:off x="3124080" y="121932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Constit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08"/>
          <p:cNvSpPr/>
          <p:nvPr/>
        </p:nvSpPr>
        <p:spPr>
          <a:xfrm>
            <a:off x="4648320" y="1219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Federali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09"/>
          <p:cNvSpPr/>
          <p:nvPr/>
        </p:nvSpPr>
        <p:spPr>
          <a:xfrm>
            <a:off x="617220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Vocabul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10"/>
          <p:cNvSpPr/>
          <p:nvPr/>
        </p:nvSpPr>
        <p:spPr>
          <a:xfrm>
            <a:off x="7696080" y="1003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Grab B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217" descr="applause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Object 219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98" spid="">
              <p:embed/>
              <p:pic>
                <p:nvPicPr>
                  <p:cNvPr id="159" name="Object 219" descr="">
                    <a:hlinkClick r:id="rId99" action="ppaction://hlinksldjump"/>
                  </p:cNvPr>
                  <p:cNvPicPr/>
                  <p:nvPr/>
                </p:nvPicPr>
                <p:blipFill>
                  <a:blip r:embed="rId100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WordArt 220"/>
          <p:cNvSpPr txBox="1"/>
          <p:nvPr/>
        </p:nvSpPr>
        <p:spPr>
          <a:xfrm>
            <a:off x="1371600" y="2286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762120" y="213372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the first three articles of the Constitu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1371600" y="2209680"/>
            <a:ext cx="63244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rticle I: Legislative Bran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rticle II: Executive Bran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rticle III: Judicial Branch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762120" y="2666880"/>
            <a:ext cx="761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cal governments are subunits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te government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838080" y="2514600"/>
            <a:ext cx="7239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ining money is an example of this power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xpressed Power – National Government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cess of approving the Constitu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atif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371600" y="2666880"/>
            <a:ext cx="7162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ower divided between three independent branches of gover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paration of power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600200" y="182880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ower is divided between a central and local governments in this form of gover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457200" y="2666880"/>
            <a:ext cx="8458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agreement appealed to both big and small states and settled the debate over state representation in Congr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1143000" y="27432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reat Comprom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0" y="2666880"/>
            <a:ext cx="89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form of government that gives the power directly to the people to create law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mocrac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"/>
          <p:cNvSpPr/>
          <p:nvPr/>
        </p:nvSpPr>
        <p:spPr>
          <a:xfrm>
            <a:off x="685800" y="2666880"/>
            <a:ext cx="8153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lected officials represent the people in the creation of laws and operating of government in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public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457200" y="2666880"/>
            <a:ext cx="8458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legislative branch has the power to impeach judges.  This is an example of which of the 6 principles of the U.S. Constitu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hecks and Bala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533520" y="2666880"/>
            <a:ext cx="7238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main reason the Constitution has endured 200 year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144792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visions For Change (Amendment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>
            <a:hlinkClick r:id="rId1" action="ppaction://hlinksldjump"/>
          </p:cNvPr>
          <p:cNvSpPr/>
          <p:nvPr/>
        </p:nvSpPr>
        <p:spPr>
          <a:xfrm>
            <a:off x="0" y="30492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ederalism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685800" y="2666880"/>
            <a:ext cx="7696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e argued that humans must submit some power and freedom to the government due to the innate evil nature of all humans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omas Hobb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228600" y="2666880"/>
            <a:ext cx="86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strong central government was supported and argued for by this group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ederalist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1371600" y="2362320"/>
            <a:ext cx="63244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believed that if government was tyrannical and not protecting the people</a:t>
            </a:r>
            <a:r>
              <a:rPr b="0" lang="ja-JP" sz="40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 rights, then the it is the job of the people to revolt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1371600" y="25146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John Lock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stitution Principl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4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1143000" y="1676520"/>
            <a:ext cx="7162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oes the American system of government protect and guarantee our rights and freedoms?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1219320" y="1371600"/>
            <a:ext cx="71625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762120" y="914400"/>
            <a:ext cx="76197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swers Will V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2610720" y="64008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our characteristics of a st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295280" y="1219320"/>
            <a:ext cx="63248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opul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erritor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overnme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overeignt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dominant political unit in the world to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RLASD ED CENTER</cp:lastModifiedBy>
  <dcterms:modified xsi:type="dcterms:W3CDTF">2012-10-10T16:10:36Z</dcterms:modified>
  <cp:revision>62</cp:revision>
  <dc:subject/>
  <dc:title>No Slide Title</dc:title>
</cp:coreProperties>
</file>