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7D1-340D-4C7D-9ACC-AD10021A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6A2E-8DCA-4D99-A562-6A69161C9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8329-9C43-4C3F-91D4-64A187BD7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968-04D4-49FB-8EC4-E26D6A39B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85C7-AF9B-4D74-AC75-2A9444BF6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1321-6F68-48DC-BD6A-611BF6173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A180-61E2-448A-9580-D584A5876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732-B678-4043-A6EF-E25B9F03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C33-5FDE-4C9A-B194-88E1382C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52B-CBA3-48ED-94D4-540FFC10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EA4-FBDE-4D18-A4DE-D5F84728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2C8-9D17-4CFE-BBE2-6692083F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420-119F-4661-BF95-146542C1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EEF-EBF8-45C6-B600-AC31B76C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E24-E90E-44CA-9CA8-BCF93AE8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5FA-4239-463C-97AB-8D99EB77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639-B4D6-47E6-8DE9-42560602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118-818F-4C31-9A77-85A98F1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955-ED1B-46A3-82C8-5FC99166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687-641D-41A5-AC4C-389932987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political powers are at a central level under this form of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government must operate within certain bounds set by the people refers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ending the nation, insuring tranquility and promoting general welfare is all included i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ambl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document directly influenced the Framers when drafting the 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 consists largel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aints of the wrongs done to colon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ll influenced the formation of the Constit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merican gover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1219320"/>
            <a:ext cx="63244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a C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Bill of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lightment Philosophers: Locke, Hobbes, Montesqui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mplied powers are based on the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e Words 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he Constitution establish authority through the princi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individual freedoms were not added until after ratification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ce ratified a constitutional amendment may only be changed b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amend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credited with the writing of the Constit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 Mad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s power to veto an act of Congress is an exam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the following Federalism does not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Allow local Gov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handle local concer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Create a dual system of government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Create uniform laws for all stat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Create strength through un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 Uniform Laws For All Stat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urrent powers are those that ar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rcised by National and State Govern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orms of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rigi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ederal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first three articles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2096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: Legisla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: Execu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I: Judicial Bran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governments are subuni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ining money is an example of this pow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ed Power – National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of approving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divided between three independent branches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is divided between a central and local governments in this form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26668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greement appealed to both big and small states and settled the debate over state representation in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Com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2666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form of government that gives the power directly to the people to creat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ed officials represent the people in the creation of laws and operating of government i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57200" y="26668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egislative branch has the power to impeach judges.  This is an example of which of the 6 principles of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reason the Constitution has endured 200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sions For Change (Amendmen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argued that humans must submit some power and freedom to the government due to the innate evil nature of all huma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omas Hobb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rong central government was supported and argued for by this group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believed that if government was tyrannical and not protecting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, then the it is the job of the people to revol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Lock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American system of government protect and guarantee our rights and freedom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characteristics of a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2193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ri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minant political unit in the worl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0-10T16:10:36Z</dcterms:modified>
  <cp:revision>62</cp:revision>
  <dc:subject/>
  <dc:title>No Slide Title</dc:title>
</cp:coreProperties>
</file>