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170A-9AF4-4A9F-A5DB-3C018697D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8C02-20FF-40E1-A1D7-EA5CBD9FE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C15E-8BDA-4182-91E9-F0164FAC0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DE04-AA2C-4B8C-85A6-86F926DA7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3ACE-52F2-4CDC-93C4-A382E68A7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44CA-33CC-4978-A2D0-2DADADD96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5EF7-7F9A-4105-8562-8D8EDCCF4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BF73-C7B3-42E6-AE49-75E2D725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8AE8-B806-4154-B849-BA65BE8D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58A-C390-4882-B1A1-ABA2DB78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71A-7E9B-403E-91D3-759854E3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111-1FB6-48B3-8D52-0D0B4853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1B4-1FE7-4AA5-8B19-3F861F66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9CE-B0FC-4CDC-8E73-9FEA16D8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FF9-C28E-461A-9076-43480FE8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A03-0D85-4FEE-AA85-4CDB33E0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009-8A5D-4D6C-881B-7FF0C558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EE9-721E-4B3C-942A-731CC9ED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6BF2-65FC-4EB4-94B2-EF05D355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E0B2-06BC-4ACE-8683-74179D429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political powers are at a central level under this form of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19051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dea that government must operate within certain bounds set by the people refers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mited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ending the nation, insuring tranquility and promoting general welfare is all included i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ambl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document directly influenced the Framers when drafting the Constitu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s of Confeder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eclaration of Independence consists largely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laints of the wrongs done to coloni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ll influenced the formation of the Constit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merican govern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6668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1219320"/>
            <a:ext cx="63244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gna Car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glish Bill of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lightment Philosophers: Locke, Hobbes, Montesqui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s of Confede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mplied powers are based on the cl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cessary and Proper Cl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th the Words 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the Peopl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the Constitution establish authority through the principl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Sovereign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individual freedoms were not added until after ratification of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ll of Righ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ce ratified a constitutional amendment may only be changed b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3864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other amend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credited with the writing of the Constitu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mes Mad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s power to veto an act of Congress is an exampl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0" y="76212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the following Federalism does not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. Allow local Gov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 handle local concer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. Create a dual system of government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. Create uniform laws for all state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. Create strength through uni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te Uniform Laws For All Stat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urrent powers are those that ar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rcised by National and State Govern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Forms of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rigin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onstit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ederal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first three articles of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2096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: Legislative Bran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I: Executive Bran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II: Judicial Bran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governments are subunit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governmen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ining money is an example of this powe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ressed Power – National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ss of approving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 divided between three independent branches of 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ion of pow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600200" y="1828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 is divided between a central and local governments in this form of 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57200" y="26668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greement appealed to both big and small states and settled the debate over state representation in 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143000" y="2743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 Com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0" y="2666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form of government that gives the power directly to the people to create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ocr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ed officials represent the people in the creation of laws and operating of government in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457200" y="266688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egislative branch has the power to impeach judges.  This is an example of which of the 6 principles of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in reason the Constitution has endured 200 ye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visions For Change (Amendment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deralis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 argued that humans must submit some power and freedom to the government due to the innate evil nature of all huma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omas Hobb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trong central government was supported and argued for by this group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3623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believed that if government was tyrannical and not protecting the peopl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s, then the it is the job of the people to revol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Lock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Princip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American system of government protect and guarantee our rights and freedoms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ur characteristics of a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95280" y="1219320"/>
            <a:ext cx="632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rito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vereign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minant political unit in the world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10-10T16:10:36Z</dcterms:modified>
  <cp:revision>62</cp:revision>
  <dc:subject/>
  <dc:title>No Slide Title</dc:title>
</cp:coreProperties>
</file>