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7B7-78AB-4EB2-93B0-FAE3D8A8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7EA-FB62-45FF-9C5E-568745E3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448-29D6-4AAE-8F40-8C1BCEB9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F5F-2CFE-4BBF-A025-D332931E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11BF-2353-4F79-B14D-4D3D63E2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C51-8EDA-4B97-BAC8-0EEEE466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B23-F79D-4682-9740-160E1A35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CBF-FB79-4E1F-A020-57B82772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795-4447-4B11-9E2B-6973A14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C82-B852-4CA8-885A-56DD2215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991-55BE-45CD-8B9E-E77703CA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E0B-13CB-4A5F-89EE-45F9B67F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3EB-B68A-43B4-BB71-42D5F588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54C-2C81-4192-A636-D83B9FF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5FA-656C-45BE-AE8C-4B08FB5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4A9-49D7-4C80-8771-FC5FFA91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939-906D-4408-9C6A-A8B76C36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2DA-4794-4D3E-855B-F12D0D4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11D-6756-40D3-8604-73780A0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0CE-AD18-49BF-B379-EBACA195B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19051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have African Americans, women and other minority groups used to fight for equa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09480" y="19051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stated the right to vote could not be denied based on race or col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ended slaver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3t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19th amendment did wha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2666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ve women suffrage (voting rights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uarantees all citizens equal protection under the law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4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guarantees everyone the right 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y and public trial and right to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6668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2666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320" y="228600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all those accused of a crime to due process of law &amp; protects against double jeopar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every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an attorney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established the right to remain sil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randa v. Arizo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ere the two outcomes of New Jersey vs. TLO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3864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52280" y="205740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Established more lenient procedures for schools to search stu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duced students right to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xas v. John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2362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tected ones right to burn the American Flag as a demonstration of freedom of expression (spee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of all American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determine if laws are unconstitutional and violate the rights of America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82880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t an alien do that an American citizen ca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thi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e and run for public off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ust one do/be to become a naturalized citize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1905120"/>
            <a:ext cx="7467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8 years 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Live in the U.S. for 5 of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ss test with 60% cor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5238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mendmen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upr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o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 aliens have the same protections under law as citizens? Expl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2096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! Still protected by the Constitution and Bill of Righ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80880" y="2743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ree responsibilities of a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523880" y="152280"/>
            <a:ext cx="63248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Jury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omote common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Serve in mil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ledge allegiance to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Obtain an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the difference between a citizen right and responsibility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" y="2666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ght is guaranteed by law and a responsibility is an expectation of citize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90720" y="26668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nker v. Des Moines protected student’s rights 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280" y="2666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mbolic Speech/Freedom of Expression in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52280" y="26668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outcom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zelwood v. Kuhlmei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2133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udent’s rights to freedom of press &amp; freedom of speech can be limi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School newspape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828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protects the rights of Americans to express themselves symbolical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charged with the exact same crime tw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: Protects citizens from unreasonable searches by polic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908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fference between the Free Exercise Clause and the Establishment Claus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144792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 Exercise Clause- right to practice any religion you want or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blishment Clause- Congress m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t establish any religion (Separation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hurch &amp; St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7632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e v. Wade protects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266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woman’s right to an abor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25909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 to peacefully protest the government is protected by wha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5720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 Amendment: Freedom of Assemb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Supreme Court Case uphel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ions against illegal search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pp v. O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Freedom of Speech limit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t violates someone else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righ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citizen participation essential to the success of Demo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57200" y="25146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re citizens that vote and run for office will help make sure the best candidate is elected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Princip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685800" y="1905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es the Supreme Court protect the rights and liberties of citizen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 protects citizens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uel and unusual pu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mendment protects citizens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in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4-11-17T14:24:24Z</dcterms:modified>
  <cp:revision>86</cp:revision>
  <dc:subject/>
  <dc:title>No Slide Title</dc:title>
</cp:coreProperties>
</file>