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AC62-C985-4A7A-82D7-4184863D3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B512-291F-47C8-A913-B260AD997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1BD5-8A82-4BFD-A2DE-278F42B95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24C8-B0A1-4843-B322-92199996A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BB24-36F9-4110-9D1B-37F3EEF61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0F85-CD7E-4AF6-8114-81AD75D85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DF00-BFDF-404F-9334-F3C90252C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0D49-7982-4B4F-A645-94F7264B1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0A28-B312-492C-BA72-F82A9707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718B-17BA-4F78-BFCA-1D7BB0C3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B2C4-09F1-4903-B234-79974EB4F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7EF5-1AC6-4DF0-8CA0-08FED979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11D7-1F66-4576-AD68-A06747EA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F16D-0CFE-48F6-A68F-623F1947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69FA-ADCB-410F-A529-A23C8AA8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680A-4649-419C-BC17-B0526BD0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355C-1636-4A34-BEF8-A89C8C1B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61A2-2ADA-49BD-85F2-28566663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7128-F3EC-40A3-99A9-507CA5DA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CE85-5A8C-4280-9F78-443742C44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447920" y="25909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5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609480" y="1905120"/>
            <a:ext cx="7772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amendment have African Americans, women and other minority groups used to fight for equalit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mend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609480" y="190512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amendment stated the right to vote could not be denied based on race or colo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mend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295280" y="18288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mendment ended slavery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3th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19th amendment did what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533520" y="26668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ave women suffrage (voting rights)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52280" y="2590920"/>
            <a:ext cx="883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amendment guarantees all citizens equal protection under the law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4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mendment guarantees everyone the right to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edy and public trial and right to a law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990720" y="2666880"/>
            <a:ext cx="7086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295280" y="266688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6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76320" y="2286000"/>
            <a:ext cx="8534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mendment guarantees all those accused of a crime to due process of law &amp; protects against double jeopard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5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838080" y="266688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Supreme Court case established everyone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right to an attorney…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ideon v. Wainrigh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295280" y="190512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Supreme Court case established the right to remain silent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iranda v. Arizon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371600" y="17524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were the two outcomes of New Jersey vs. TLO?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</a:t>
            </a:r>
            <a:r>
              <a:rPr b="0" lang="ja-JP" sz="6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23864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152280" y="2057400"/>
            <a:ext cx="87631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Established more lenient procedures for schools to search studen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Reduced students right to priva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71600" y="2666880"/>
            <a:ext cx="6781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was the outcome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xas v. Johns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457200" y="236232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tected ones right to burn the American Flag as a demonstration of freedom of expression (speec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es the Supreme Court protect the rights of all American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y determine if laws are unconstitutional and violate the rights of America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533520" y="1828800"/>
            <a:ext cx="82296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cant an alien do that an American citizen can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2 thing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685800" y="26668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ote and run for public offic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45720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must one do/be to become a naturalized citizen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066680" y="1905120"/>
            <a:ext cx="74678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18 years o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Live in the U.S. for 5 of ye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Pass test with 60% correc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mendments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523880" y="1219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mendment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Supr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Cou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itize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ul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62120" y="213372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o aliens have the same protections under law as citizens? Expla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066680" y="220968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ES! Still protected by the Constitution and Bill of Righ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380880" y="27432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st three responsibilities of a citiz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523880" y="152280"/>
            <a:ext cx="632484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Jury Du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Vo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Promote common g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Serve in milita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Pledge allegiance to U.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Obtain an educa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838080" y="2514600"/>
            <a:ext cx="723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the difference between a citizen right and responsibility?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3480" y="2666880"/>
            <a:ext cx="906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ight is guaranteed by law and a responsibility is an expectation of citizen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990720" y="266688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inker v. Des Moines protected student’s rights to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52280" y="2666880"/>
            <a:ext cx="883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ymbolic Speech/Freedom of Expression in scho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52280" y="2666880"/>
            <a:ext cx="8686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was the outcome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azelwood v. Kuhlmei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0" y="2133720"/>
            <a:ext cx="8991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udent’s rights to freedom of press &amp; freedom of speech can be limit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School newspaper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457200" y="182880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amendment protects the rights of Americans to express themselves symbolicall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371600" y="26668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double jeopardy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304920" y="26668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ing charged with the exact same crime tw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609480" y="266688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mendment: Protects citizens from unreasonable searches by police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19080" y="18288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difference between the Free Exercise Clause and the Establishment Clause of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mend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0" y="1447920"/>
            <a:ext cx="91440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2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ee Exercise Clause- right to practice any religion you want or n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2500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stablishment Clause- Congress ma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not establish any religion (Separation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hurch &amp; Stat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2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76320" y="25909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oe v. Wade protects wha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57200" y="26668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woman’s right to an abor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152280" y="2590920"/>
            <a:ext cx="883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meone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right to peacefully protest the government is protected by what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457200" y="26668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st Amendment: Freedom of Assembl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3049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685800" y="266688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Supreme Court Case upheld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mendment protections against illegal search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pp v. Oh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228600" y="266688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is Freedom of Speech limited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it violates someone else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right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371600" y="236232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is citizen participation essential to the success of Democracy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457200" y="2514600"/>
            <a:ext cx="792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more citizens that vote and run for office will help make sure the best candidate is elected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titution Principl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685800" y="190512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es the Supreme Court protect the rights and liberties of citizens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1219320" y="1371600"/>
            <a:ext cx="71625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762120" y="914400"/>
            <a:ext cx="76197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swers Will V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mendment protects citizens fr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219320" y="304812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ruel and unusual punish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mendment protects citizens fro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f-incri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4-11-17T14:24:24Z</dcterms:modified>
  <cp:revision>86</cp:revision>
  <dc:subject/>
  <dc:title>No Slide Title</dc:title>
</cp:coreProperties>
</file>