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41D0-2D02-4693-88B3-6BC96FD4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AF85-ADF2-416D-AD1F-AEE0F458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931E-E046-4039-86D1-33F908704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2D2A-0058-4EF1-9787-4E7B00B7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FB19-E53C-4257-8617-65ADD1C0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7688-E916-49EA-9C7C-C16FC5B1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726F-1F23-4BB1-9634-CFA3DC39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C1D-474B-460C-BCB8-CC381EC7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C3B-157C-4290-934F-38B9E1F2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78C-CDE4-424D-AAAD-D9A48650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E7C-B0B6-4A15-BBCF-0384402B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BAB-C78E-4C2E-B48D-AC01BE84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928-F755-4144-9B9B-1E363D0C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0D8-931E-4EC6-A7A2-48211F4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B74-A171-408D-8064-33E6A3FA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07E-BC05-4FA0-80B9-78BE8B8D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59C-CEAC-4B34-AAD4-C289FEF9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ABA-F56E-4F12-BDF7-09DE72A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5B1-A629-4F28-88D5-D4D86371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67D1-7A3E-40DA-8279-272DA385F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4792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9480" y="19051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have African Americans, women and other minority groups used to fight for equal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19051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stated the right to vote could not be denied based on race or col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ended slaver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3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19th amendment did wha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2666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ve women suffrage (voting rights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uarantees all citizens equal protection under the law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guarantees everyone the right 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y and public trial and right to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26668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320" y="22860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all those accused of a crime to due process of law &amp; protects against double jeopar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every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an attorney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established the right to remain sil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randa v. Arizo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ere the two outcomes of New Jersey vs. TLO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52280" y="2057400"/>
            <a:ext cx="8763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Established more lenient procedures for schools to search stu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duced students right to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xas v. John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7200" y="236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tected ones right to burn the American Flag as a demonstration of freedom of expression (spee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of all American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determine if laws are unconstitutional and violate the rights of America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82880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t an alien do that an American citizen c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e and run for public off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ust one do/be to become a naturalized citize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1905120"/>
            <a:ext cx="7467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8 years 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Live in the U.S. for 5 of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ss test with 60% cor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5238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upr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aliens have the same protections under law as citizens? Expl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2096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! Still protected by the Constitution and 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80880" y="2743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ree responsibilities of a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523880" y="152280"/>
            <a:ext cx="63248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Jury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omote common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Serve in mil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ledge allegiance to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Obtain an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the difference between a citizen right and responsibility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" y="266688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ght is guaranteed by law and a responsibility is an expectation of citize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90720" y="26668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nker v. Des Moines protected student’s rights 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2666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mbolic Speech/Freedom of Expression in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52280" y="26668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zelwood v. Kuhlmei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2133720"/>
            <a:ext cx="8991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’s rights to freedom of press &amp; freedom of speech can be limi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chool newspape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828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protects the rights of Americans to express themselves symbolic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492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charged with the exact same crime tw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: Protects citizens from unreasonable searches by polic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908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fference between the Free Exercise Clause and the Establishment Claus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14479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 Exercise Clause- right to practice any religion you want or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blishment Clause- Congress m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t establish any religion (Separation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hurch &amp; St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7632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e v. Wade protects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266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woman’s right to an abor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peacefully protest the government is protected b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5720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 Amendment: Freedom of Assem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uphel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ions against illegal sear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pp v. Oh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s Freedom of Speech limit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t violates someone els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citizen participation essential to the success of Demo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57200" y="25146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re citizens that vote and run for office will help make sure the best candidate is electe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5800" y="1905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and liberties of citizen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s citizens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048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uel and unusual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protects citizens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in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4-11-17T14:24:24Z</dcterms:modified>
  <cp:revision>86</cp:revision>
  <dc:subject/>
  <dc:title>No Slide Title</dc:title>
</cp:coreProperties>
</file>