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B7D4-6822-4EFD-9C9D-6E45EF609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6224-DA4C-41C4-9231-D831CB0E8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6621-4796-4412-9C93-674234997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6218-8A89-491F-B537-DF388CF67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0C19-CA90-4E6F-B15B-53FAD2044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898C-65AC-4A12-81B3-B5B61E086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07B3-B447-480A-AA04-EB9190D1D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7532-EBBC-4392-A32E-C06CA721D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4A83-EBDB-430A-AF61-2555AC34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0DDC-1642-43C8-B8E8-9F9C62F29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4667-4C94-4EDF-AD3D-7B932857B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1ADB-9F4E-48E7-9FE0-4E1D89ED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4B73-4FD7-4FBC-8BE8-222AF8B9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9E41-D857-40CB-9B00-89A46F75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A1A7-9353-43BE-9539-F180DEAA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C80F-0DC3-48EA-AAC9-0B07FE1F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24D7-D18F-45B3-AF7C-4EDEC832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7F31-505B-4226-9820-22E28C43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51DC-41A0-44B4-A3E3-6AB04E73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43A2-5F88-4134-BD2D-4DC0B2B52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447920" y="25909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5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609480" y="1905120"/>
            <a:ext cx="7772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amendment have African Americans, women and other minority groups used to fight for equalit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mend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609480" y="190512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amendment stated the right to vote could not be denied based on race or col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mend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295280" y="18288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ndment ended slavery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3th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19th amendment did what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533520" y="26668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ave women suffrage (voting rights)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52280" y="2590920"/>
            <a:ext cx="883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amendment guarantees all citizens equal protection under the law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4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mendment guarantees everyone the right to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edy and public trial and right to a law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990720" y="2666880"/>
            <a:ext cx="7086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295280" y="266688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6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76320" y="2286000"/>
            <a:ext cx="8534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ndment guarantees all those accused of a crime to due process of law &amp; protects against double jeopard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5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838080" y="266688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Supreme Court case established everyone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right to an attorney…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ideon v. Wainrigh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295280" y="190512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Supreme Court case established the right to remain silen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iranda v. Arizon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371600" y="17524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were the two outcomes of New Jersey vs. TLO?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23864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52280" y="2057400"/>
            <a:ext cx="87631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Established more lenient procedures for schools to search studen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Reduced students right to priva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666880"/>
            <a:ext cx="6781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was the outcome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xas v. Johns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457200" y="23623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tected ones right to burn the American Flag as a demonstration of freedom of expression (speec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es the Supreme Court protect the rights of all American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y determine if laws are unconstitutional and violate the rights of America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533520" y="1828800"/>
            <a:ext cx="82296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cant an alien do that an American citizen can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2 thing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685800" y="2666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ote and run for public offic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4572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must one do/be to become a naturalized citizen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066680" y="1905120"/>
            <a:ext cx="74678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18 years o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Live in the U.S. for 5 of ye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Pass test with 60% correc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mendments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523880" y="1219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mendment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Supr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Cou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itize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62120" y="213372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o aliens have the same protections under law as citizens? Expla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066680" y="220968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ES! Still protected by the Constitution and Bill of Righ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380880" y="2743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st three responsibilities of a citiz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523880" y="152280"/>
            <a:ext cx="632484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Jury Du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Vo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Promote common g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Serve in milita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Pledge allegiance to U.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Obtain an educa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838080" y="2514600"/>
            <a:ext cx="723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the difference between a citizen right and responsibility?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3480" y="2666880"/>
            <a:ext cx="906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ight is guaranteed by law and a responsibility is an expectation of citizen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990720" y="266688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inker v. Des Moines protected student’s rights to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52280" y="2666880"/>
            <a:ext cx="883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ymbolic Speech/Freedom of Expression in scho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52280" y="2666880"/>
            <a:ext cx="8686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was the outcom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azelwood v. Kuhlmei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0" y="2133720"/>
            <a:ext cx="8991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udent’s rights to freedom of press &amp; freedom of speech can be limit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School newspaper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457200" y="182880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amendment protects the rights of Americans to express themselves symbolicall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371600" y="26668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double jeopard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304920" y="26668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ing charged with the exact same crime tw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609480" y="26668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mendment: Protects citizens from unreasonable searches by police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19080" y="18288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difference between the Free Exercise Clause and the Establishment Clause of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mend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0" y="1447920"/>
            <a:ext cx="91440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2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ee Exercise Clause- right to practice any religion you want or n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2500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stablishment Clause- Congress ma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not establish any religion (Separation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hurch &amp; Stat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2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76320" y="25909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oe v. Wade protects wha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57200" y="26668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woman’s right to an abor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152280" y="2590920"/>
            <a:ext cx="883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meone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right to peacefully protest the government is protected by wha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457200" y="26668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st Amendment: Freedom of Assembl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3049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685800" y="266688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Supreme Court Case upheld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mendment protections against illegal search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pp v. Oh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228600" y="266688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is Freedom of Speech limited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it violates someone else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right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371600" y="236232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is citizen participation essential to the success of Democrac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457200" y="251460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ore citizens that vote and run for office will help make sure the best candidate is elected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titution Principl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685800" y="190512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es the Supreme Court protect the rights and liberties of citizens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219320" y="1371600"/>
            <a:ext cx="7162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762120" y="914400"/>
            <a:ext cx="76197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swers Will V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mendment protects citizens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219320" y="304812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ruel and unusual punish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mendment protects citizens fro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f-incri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4-11-17T14:24:24Z</dcterms:modified>
  <cp:revision>86</cp:revision>
  <dc:subject/>
  <dc:title>No Slide Title</dc:title>
</cp:coreProperties>
</file>