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7921-EE6C-4E55-857A-EA60BA871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68F8-03AD-4582-B60D-5B3756E14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C936-923D-433C-A201-3A247168C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5418-509D-4BA1-B7B2-50F2A274C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3E2A-325B-40E0-9CAC-6C92D1FA6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BD61-09F5-4187-80E3-E837CA52F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1F66-3015-437F-88EA-646F0895B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E7AD-8D60-4730-8748-7CC0E51A8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85B6-B168-4BB9-9D75-57B9AB63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5EFA-EC4B-432B-89A8-FE7204FBA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17FD-C13C-42E9-A0C0-FE4220295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8341-B400-483A-A3E6-10142C9D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AF76-29C1-400B-8067-9271C930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1C3A-D69D-4E03-A2A8-C27DB929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2A9C-149A-43A9-8C5B-5A30626C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B2D9-C87F-4352-B976-8D820A2C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49EC-17B8-4CD5-B4E8-5FD36131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0367-2253-4F95-8FA3-79845A76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4690-6698-4BE6-85A7-D5CD7B5A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AFB8-D277-4CDB-91F0-0D3CDEA48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slide66.xml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jor Parties adopt idea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371600" y="19810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reason a Two-Party System developed in the U.S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371600" y="266688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pposing views of Fram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eds vs Anti-Fed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371600" y="190512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group major parties try to appeal 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verybody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295280" y="182880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major reasons suffrage has progressed in Americ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mendments and Civil Right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371600" y="17524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many states require of all voter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itizenship and Residency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371600" y="190512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iggest factor impacting voting behavi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rty Identificat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990720" y="1905120"/>
            <a:ext cx="7086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type of minor party breaks away from a major party to form a new political par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plinter Par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1371600" y="20574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reason literacy tests used for voting rights were unfair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frican Americans were asked harder question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838080" y="182880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ttitudes about government held by a significant number of peopl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26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027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ublic Opin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028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295280" y="190512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mass media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biggest impact on public opin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ocus on specific issue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371600" y="17524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most expensive item in a typical campaign budget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Welcome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ontestants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1143000"/>
            <a:ext cx="419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oday</a:t>
            </a:r>
            <a:r>
              <a:rPr b="0" lang="ja-JP" sz="6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609480" y="4191120"/>
            <a:ext cx="7953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CDEHS Government Clas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V Advertisement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371600" y="26668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reason polls are used in politic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determine public viewpoint on political issu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1371600" y="20574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rganization of workers from the same industry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abor Un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533520" y="1600200"/>
            <a:ext cx="82296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hod by which the President is elected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685800" y="26668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lectoral College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45720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lection in which more of the people vote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eneral Federal Elect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Poli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Parti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Vo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Publi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Opin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El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ocabul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rab 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762120" y="213372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ldest form of political nomination in the U.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lf-Announcemen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762120" y="266688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mallest geographic unit used for election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cinct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838080" y="2514600"/>
            <a:ext cx="723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actice of giving government jobs to loyal suppor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tron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party system exists in all dictatorship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ne Party Syste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371600" y="266688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political party’s beliefs and stances on issues is known 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atfor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600200" y="18288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ue/False: Any individual can choose to join a political party will be accep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371600" y="26668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cess by which people form attitudes about governmen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litical Socializ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609480" y="2666880"/>
            <a:ext cx="7696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n the Republicans and Democrats are working together this is known as _________ poli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ipartis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685800" y="266688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vent at which candidates are not labeled by party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n-Partisan Primary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plit-ticket voting a sign of these weakening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litical Partie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533520" y="2666880"/>
            <a:ext cx="723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cedure states use to combat fraudulent voting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gistrat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68580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reason voting machines are used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1143000" y="27432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 minimize vote counting error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228600" y="266688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nly party members may vote at this event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osed Primary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1371600" y="25146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chnique used to get individuals to adopt a particular belief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paganda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oting Right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1143000" y="1676520"/>
            <a:ext cx="7162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st the 3 reasons that explain why voting rights are so important in the United State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1219320" y="1371600"/>
            <a:ext cx="71625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762120" y="914400"/>
            <a:ext cx="761976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mocrac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isto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rticip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rty Suppor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y Mo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number one function of political parti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295280" y="175248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et Candidates Elected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371600" y="19810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inor parties biggest impact on politic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RLASD ED CENTER</cp:lastModifiedBy>
  <dcterms:modified xsi:type="dcterms:W3CDTF">2012-11-29T12:51:21Z</dcterms:modified>
  <cp:revision>57</cp:revision>
  <dc:subject/>
  <dc:title>No Slide Title</dc:title>
</cp:coreProperties>
</file>