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9E4C-6144-46E3-9B10-72244DA4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1216-FFEA-4925-9048-BF884C801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74A9-97CA-47B2-BCC3-277095F51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320-BB39-4923-AB6D-2EB868AB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344D-E65F-4D1C-840F-25EF875A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56C6-2AE4-4F8F-9076-E9E69665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251-8AD3-4C4A-8BB4-8899C83B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56B-2106-4F7A-AC8F-C518D293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00E-23A2-4E98-8B43-5699B73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3E8-6763-4916-8AE1-4411B468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F88-6395-48BE-85CA-BD4ACA4D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3CE-EBB4-40D2-BD5F-CE92F80F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591-E791-4720-B927-5790570C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3A2-E826-48D2-B935-7390E43E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C1C-104D-4227-99DB-83A2858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488-E141-4D7D-8E00-D95D5950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397-F509-4398-8D9C-7DE9599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E98-F4A8-48CE-AF64-1DA1F3E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F10-1F88-4AED-9DA6-1D535C0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82E-55B7-48BD-8497-8DB31B507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Parties adopt ide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a Two-Party System developed in the U.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ing views of Fra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s vs Anti-F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major parties try to appeal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bod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jor reasons suffrage has progressed in Ame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s and Civil Right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1752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ny states require of all vot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zenship and Residenc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st factor impacting voting behav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Identifi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9051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minor party breaks away from a major party to form a new political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nter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literacy tests used for voting rights were unfai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rican Americans were asked harder questio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itudes about government held by a significant number of peo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ss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biggest impact on 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pecific issu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expensive item in a typical campaign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V Advertise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son polls are used in poli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etermine public viewpoint on political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ation of workers from the same indust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 U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hod by which the President i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in which more of the people vo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Federal Ele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l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r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in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ldest form of political nomination in the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-Announce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est geographic unit used for electio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nc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actice of giving government jobs to loyal suppo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arty system exists in all dictatorshi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Party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olitical party’s beliefs and stances on issues is know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/False: Any individual can choose to join a political party will be acce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by which people form attitudes about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Socia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Republicans and Democrats are working together this is known as _________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partis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 at which candidates are not labeled by par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-Partisan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t-ticket voting a sign of these weakenin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Parti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dure states use to combat fraudulent voti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st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voting machines are used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minimize vote counting err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y party members may vote at this ev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d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ique used to get individuals to adopt a particular belie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nd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 Righ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e 3 reasons that explain why voting rights are so important in the United Stat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Sup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 M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one function of political par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752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Candidate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 parties biggest impact on politic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1-29T12:51:21Z</dcterms:modified>
  <cp:revision>57</cp:revision>
  <dc:subject/>
  <dc:title>No Slide Title</dc:title>
</cp:coreProperties>
</file>