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FAE-7F1C-4831-B8C0-F7F3F0DD2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254A-DED6-4B6F-BB28-45D2824E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068-28D1-4482-A14B-152DAEA67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D885-7F54-4BD2-81B2-632A3D4B1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F619-D7EE-4E1D-A9B5-4D7F1BBED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AA93-8BA2-4EB4-925A-765CAA57A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1BF-86D2-4097-BCD7-6DD3E4D07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F50-5651-4FA5-AA59-312F1D9D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22E-7C16-4B16-9A18-CA44031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6C9-765A-48CA-B928-7A4C3C44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B80-E179-44F7-B5F7-E81D8670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A57-97CD-4C95-A602-050ADCE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CFE-BB10-4C42-A289-3909D55F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FC2-729B-4840-BEC8-EBA785AB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D34-0546-407E-BB9C-DBFD1EBE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A1D-9ECB-4C6F-B882-4144A81B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637-D310-4011-BF34-FD42845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66B-9A69-42F8-85F3-172A5CE4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536-DA79-42FC-9B19-C99D9AF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FB55-F752-492E-B385-4D4ED6D4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Parties adopt ide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a Two-Party System developed in the U.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ing views of Fra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s vs Anti-F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major parties try to appeal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bod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jor reasons suffrage has progressed in Ame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s and Civil Right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1752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ny states require of all vot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zenship and Residenc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st factor impacting voting behav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Identifi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9051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minor party breaks away from a major party to form a new political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nter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literacy tests used for voting rights were unfai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rican Americans were asked harder questio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itudes about government held by a significant number of peo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ss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biggest impact on 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pecific issu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expensive item in a typical campaign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V Advertise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son polls are used in poli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etermine public viewpoint on political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ation of workers from the same indust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 U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hod by which the President i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in which more of the people vo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Federal Ele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l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r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in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ldest form of political nomination in the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-Announce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est geographic unit used for electio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nc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actice of giving government jobs to loyal suppo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arty system exists in all dictatorshi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Party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olitical party’s beliefs and stances on issues is know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/False: Any individual can choose to join a political party will be acce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by which people form attitudes about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Socia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Republicans and Democrats are working together this is known as _________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partis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 at which candidates are not labeled by par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-Partisan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t-ticket voting a sign of these weakenin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Parti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dure states use to combat fraudulent voti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st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voting machines are used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minimize vote counting err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y party members may vote at this ev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d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ique used to get individuals to adopt a particular belie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nd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 Righ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e 3 reasons that explain why voting rights are so important in the United Stat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Sup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 M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one function of political par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752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Candidate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 parties biggest impact on politic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1-29T12:51:21Z</dcterms:modified>
  <cp:revision>57</cp:revision>
  <dc:subject/>
  <dc:title>No Slide Title</dc:title>
</cp:coreProperties>
</file>