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42A6-F209-4AA5-9802-2F004C452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D19E-3EA6-4177-9B90-6EDF8107E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7CA6-7747-4A5B-AB63-566765C9A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A918-A998-482E-9FBD-6B9506794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C458-CB4C-41E7-915D-F9F6A9D6C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BCA9-B1D0-49CD-AD0D-9E5E888BB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075A-209C-42DF-962F-62E162874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D29-C586-4AD6-9793-ABAE060B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166-534D-42B1-9F23-D0E5B094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D67-A84D-4468-860F-FE87012F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120-4B40-4C7D-AE8E-42A434E8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ED3-1ACA-4762-8468-EA5306D7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0AB-58B0-43EA-AD91-6E682DA2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0E6-85D5-4B45-8C41-60044B0C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933-264B-4835-967C-7C69D177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572-EDB0-4822-9C5F-2821579F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192-A29B-4281-9170-466A0CD3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5B6-418E-437F-A0C6-591A435D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BFB-0917-4A63-80C3-8861E415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FF9A-0576-48A6-A064-E6017C943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Parties adopt ide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a Two-Party System developed in the U.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posing views of Fra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ds vs Anti-Fe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19051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roup major parties try to appeal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rybod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jor reasons suffrage has progressed in Ame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endments and Civil Right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17524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many states require of all voter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itizenship and Residenc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19051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ggest factor impacting voting behavi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y Identifi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9051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minor party breaks away from a major party to form a new political pa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linter Pa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literacy tests used for voting rights were unfair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frican Americans were asked harder question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18288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itudes about government held by a significant number of peop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blic Opi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ss media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biggest impact on public opi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cus on specific issu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st expensive item in a typical campaign budge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V Advertisemen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ason polls are used in politic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determine public viewpoint on political iss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ganization of workers from the same indust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bor U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33520" y="160020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hod by which the President is elect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oral Colleg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 in which more of the people vot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ral Federal Elec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ol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art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ubl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pin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ldest form of political nomination in the U.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f-Announce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mallest geographic unit used for electio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cinc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actice of giving government jobs to loyal suppor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tro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arty system exists in all dictatorshi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Party 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olitical party’s beliefs and stances on issues is known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t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600200" y="1828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/False: Any individual can choose to join a political party will be accep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ss by which people form attitudes about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itical Socializ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609480" y="266688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the Republicans and Democrats are working together this is known as _________ poli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partis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nt at which candidates are not labeled by part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n-Partisan Prima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lit-ticket voting a sign of these weakening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itical Parti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dure states use to combat fraudulent voting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gistr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voting machines are used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143000" y="27432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minimize vote counting error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ly party members may vote at this eve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osed Prima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nique used to get individuals to adopt a particular belief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aganda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ting Righ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the 3 reasons that explain why voting rights are so important in the United Stat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ocrac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sto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cip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y Suppor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y Mo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umber one function of political part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95280" y="1752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t Candidates Elect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or parties biggest impact on politic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11-29T12:51:21Z</dcterms:modified>
  <cp:revision>57</cp:revision>
  <dc:subject/>
  <dc:title>No Slide Title</dc:title>
</cp:coreProperties>
</file>