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A751-B3D4-4646-98B0-7D8D622C6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FF83-B083-4D92-B27A-087BC8703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DD81-D6B6-4252-8202-76812A425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A901-970E-4BFF-B73D-1BF83CCE0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9EB6-689C-4808-9113-7690F9318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D7B4-49BA-448D-8B7D-46B23D63A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3EBF-FB51-4815-8C4F-54CCBA451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949-2172-44EB-9257-03B995D3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EF4-8D4A-4473-9AD0-83053300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7F2-7F28-424E-A010-64146708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1476-2BF8-4740-9E8F-CE4A88C4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6DE-A3AA-47F6-A977-1F5A2ABB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35D5-55EF-44C4-ACAD-0F565754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1AE-7B18-4A4C-87A4-39A59BA7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8B9-5B60-4F4C-B0C7-74AD9FAA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3B3F-C8AD-45F5-956C-51826C4E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DC0-298C-4E28-A3D6-22D636A7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9A76-3A06-4EB0-9086-82984E10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DBA-4384-4652-A3FD-07FB2A1D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77AC-AC6E-4ED3-AB8E-032D8C970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Parties adopt idea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19810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a Two-Party System developed in the U.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posing views of Fra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ds vs Anti-Fed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19051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roup major parties try to appeal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rybody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95280" y="18288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jor reasons suffrage has progressed in Amer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endments and Civil Right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17524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many states require of all voter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itizenship and Residency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19051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ggest factor impacting voting behavi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y Identific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19051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minor party breaks away from a major party to form a new political pa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linter Pa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057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literacy tests used for voting rights were unfair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frican Americans were asked harder question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38080" y="18288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titudes about government held by a significant number of peop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ublic Opin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190512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ss media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biggest impact on public opin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cus on specific issu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17524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ost expensive item in a typical campaign budge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CDEHS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V Advertisement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eason polls are used in politic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determine public viewpoint on political issu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057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ganization of workers from the same industr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bor Un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533520" y="1600200"/>
            <a:ext cx="82296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hod by which the President is elect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oral Colleg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572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ion in which more of the people vot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eral Federal Elec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oli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art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Vo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ubl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Opin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1337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ldest form of political nomination in the U.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lf-Announce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mallest geographic unit used for election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cinc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251460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actice of giving government jobs to loyal suppor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tron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arty system exists in all dictatorshi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e Party Syst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political party’s beliefs and stances on issues is known 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t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600200" y="18288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/False: Any individual can choose to join a political party will be accep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cess by which people form attitudes about govern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itical Socializ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609480" y="2666880"/>
            <a:ext cx="769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the Republicans and Democrats are working together this is known as _________ poli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partis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nt at which candidates are not labeled by part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n-Partisan Primar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lit-ticket voting a sign of these weakening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itical Partie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5335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cedure states use to combat fraudulent voting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gistr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voting machines are used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143000" y="27432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minimize vote counting error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ly party members may vote at this even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osed Primar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nique used to get individuals to adopt a particular belief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paganda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oting Right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143000" y="167652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st the 3 reasons that explain why voting rights are so important in the United State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762120" y="914400"/>
            <a:ext cx="76197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mocrac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sto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icip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y Suppor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y Mo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number one function of political part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95280" y="17524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t Candidates Elect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19810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nor parties biggest impact on politic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11-29T12:51:21Z</dcterms:modified>
  <cp:revision>57</cp:revision>
  <dc:subject/>
  <dc:title>No Slide Title</dc:title>
</cp:coreProperties>
</file>