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7DD-88A2-4A9A-997E-267F29A6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06D-6FB7-425C-9CD0-6EE5EAB7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537-C10B-4274-9A10-1E747F1FE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6ABF-20F5-4A68-A0AB-0C4C4C16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8928-B6AF-4C73-AAFB-D3616818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CDC-FF50-4204-92DA-5E472C6A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E42C-CA59-4D24-9B2A-787184C4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0DF-A0D1-4C09-BBC1-83F79B3C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DCB-B8EE-457E-BFB4-C606A589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422-A348-49D3-B81A-EC201946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58E-2AEB-4766-8447-E964591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B94-B173-4497-A54F-72FE97B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4C6-86BA-41EF-834F-D39059E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035-487B-4802-BB55-8A900F4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9F9-A1FE-4863-B777-18C5ED0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BFB-C9D4-4DA8-8B19-5A5DFDC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A54-344B-450C-87E0-AB2E7E2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5B7-CAD4-42AA-927A-F5C0321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709-726E-4855-8395-8826137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A52-ADED-434D-8C88-6CB2164F7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 that each state has fixed seats in the Senate derives from what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ason the Framers favored 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owed for equal representation of the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ry state has at least one of these in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y on which Congressional Elections must be he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 after the First Monday in November (Even-Numbered Year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26668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length for a U.S. Representativ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19320" y="259092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2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6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2362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must a U.S. Representative be a citizen before being eligible for office? A U.S. Senat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286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esentative = 7 years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 = 9 years citiz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ors where chosen by State Legislatures before the passing of this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7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3520" y="2438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not a way in which the House and Senate Differ? – size, term or 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has currently has the power in the U.S.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currently has the power in the U.S. Sen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roup that has the sole power to impeach the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use of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enates most influential non-legislativ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ving Presidential Appoin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declare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treaties must be approved by 2/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ote from this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gress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ing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amers included this Clause in  the Constitution allowing Congress to carry out expressed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cessary and Proper Cla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has the sole power to propose Constitutional Amend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5720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shares Foreign Relation Powers with what off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uses these to divide their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n happen to a Bill if the President fails to act on it 10 days after received by Congress while Congress is in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s La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measures introduced in the House die at which step of the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04920" y="271476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bills introduced in the House of Representativ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d in the Hop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04920" y="2666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like the House, the Senate has few limits on this process of law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fficial that presides over the Senate in the Vic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abs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ture rule can be used to en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ibu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may do this to prevent a bill passed by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mittee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 Pro Tempore follows this official in leading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ce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Speaker of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8600" y="2666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Boeh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bills are introduced in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Individual Sena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3 Reasons the Framers of the Constitution established a Bicameral 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137160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State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 in Law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e Worklo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nswers May Be Accep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22096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U.S. Representatives are there total? U.S.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35 Represent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2666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for the regular period of time during which Congress conducts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2-11T14:14:19Z</dcterms:modified>
  <cp:revision>58</cp:revision>
  <dc:subject/>
  <dc:title>No Slide Title</dc:title>
</cp:coreProperties>
</file>