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694A-7F9D-4C59-9E79-584640CF3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51DE-75EB-4521-B35B-FD38DBD9C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F575-716B-4EC0-A8B5-E169DE543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D2A9-197B-4EF2-B672-ED9D4E89D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1A51-8C4E-4D3C-98B6-11972F5AE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AE5D-0385-4023-A221-2DD55722B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D9CE-AE3A-49D5-B703-BF9F3A57B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DBC-7B84-4ADC-B292-74D1AD9E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701-B980-4AD5-BF12-7450137B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E96-C651-4B47-9DC7-F4BAA318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AFA-76EA-483C-9808-12C08FC3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0C1-CEDC-49E5-9C4F-1AC7F17D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394-F9CE-4548-9123-C2CAADC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601-F9DD-473C-94E9-F70CDA7D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43B-6348-413E-888F-7FBCAD99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7ED-09F4-4442-974B-FD4F3D96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358-8637-4CEF-8F47-3F6D16A0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603-94F3-41FB-892D-B69A78E2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D48-2805-44AF-9DD4-5A1DF2CA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9976-CFFC-4E7A-98BA-AADCAB7F2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act that each state has fixed seats in the Senate derives from what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the Framers favored 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owed for equal representation of the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 state has at least one of these in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y on which Congressional Elections must be he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uesday after the First Monday in November (Even-Numbered Year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26668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erm length for a U.S. Representativ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19320" y="259092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2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6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23623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long must a U.S. Representative be a citizen before being eligible for offic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28600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7 years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9 years citiz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s where chosen by State Legislatures before the passing of this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7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33520" y="24382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is not a way in which the House and Senate Differ? – size, term or 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has currently has the power in the U.S.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currently has the power in the U.S. Sena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that has the sole power to impeach the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use of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enates most influential non-legislativ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ving Presidential Appoint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declare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treaties must be approved by 2/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vote from this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king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amers included this Clause in  the Constitution allowing Congress to carry out expressed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propose Constitutional Amend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5720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shares Foreign Relation Powers with what off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uses these to divide their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n happen to a Bill if the President fails to act on it 10 days after received by Congress while Congress is in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omes La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measures introduced in the House die at which step of the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04920" y="271476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bills introduced in the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d in the Ho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04920" y="26668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like the House, the Senate has few limits on this process of law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b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fficial that presides over the Senate in the Vic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abs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oture rule can be used to en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libus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may do this to prevent a bill passed by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Pro Tempore follows this official in leading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c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Speaker of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Boeh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how bills are introduced in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Individual Senat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3 Reasons the Framers of the Constitution established a Bicameral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0" y="137160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State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in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de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 Answers May Be Accep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57200" y="22096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U.S. Representatives are there total? U.S.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35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0" y="2666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word for the regular period of time during which Congress conducts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2-11T14:14:19Z</dcterms:modified>
  <cp:revision>58</cp:revision>
  <dc:subject/>
  <dc:title>No Slide Title</dc:title>
</cp:coreProperties>
</file>