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9695-BFE4-4165-BA8F-76F90C439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4C25-4512-48A2-B52B-F5B991611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4728-545C-4367-BF5C-E8AF26D2A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A259-D1ED-48A3-9DAB-8779F0D4C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593B-85B1-4744-9B08-56308FDF3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E1A9-EC94-4D8F-B885-8EF9DC672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6BD8-6659-45BA-8459-45AAD97AE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E0C9-5FF9-4260-AE94-AE8DFE2D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A8A9-54F1-4DBA-AFD1-418C683B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C7F3-18DF-4FF5-B36B-904F7C0D6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A0A1-49A8-424F-B76B-75F67914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DF45-FAAD-4FD3-8D20-20A57B9E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F7E6-715D-4694-900D-678F96AC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4E6B-B3C7-458C-90A8-81E798BB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8F44-1B68-47A7-A744-B8871270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4F5F-2F01-491F-8FC3-2003DDEE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C41F-C48A-4ED8-8186-2091C7E2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88DD-9D3C-4512-B2EE-9789D66E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302A-F447-42BA-A47F-F1A2CBD2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0E0D-C2B6-475A-A627-BFC5F935B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act that each state has fixed seats in the Senate derives from what docu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onstit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reason the Framers favored bicamer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lowed for equal representation of the st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very state has at least one of these in Congr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presentativ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day on which Congressional Elections must be hel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uesday after the First Monday in November (Even-Numbered Year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57200" y="266688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term length for a U.S. Representative? A U.S. Senat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219320" y="259092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presentative = 2 ye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nator = 6 ye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52280" y="236232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long must a U.S. Representative be a citizen before being eligible for office? A U.S. Senat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304920" y="2286000"/>
            <a:ext cx="8534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presentative = 7 years citiz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nator = 9 years citiz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nators where chosen by State Legislatures before the passing of this Amend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7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533520" y="243828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of the following is not a way in which the House and Senate Differ? – size, term or el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371600" y="26668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political party has currently has the power in the U.S. House of Representativ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public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371600" y="26668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political party currently has the power in the U.S. Senat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19112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public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6668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group that has the sole power to impeach the Presi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use of Representa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enates most influential non-legislative p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pproving Presidential Appoint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71600" y="26668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has the sole power to declare wa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g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l treaties must be approved by 2/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vote from this gro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n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ng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ngress Nu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ngress Pow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e Pow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king La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62120" y="266688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ramers included this Clause in  the Constitution allowing Congress to carry out expressed pow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ecessary and Proper Cla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762120" y="266688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has the sole power to propose Constitutional Amendme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gr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457200" y="266688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gress shares Foreign Relation Powers with what offici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esid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gress uses these to divide their workloa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mitt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666880"/>
            <a:ext cx="7162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can happen to a Bill if the President fails to act on it 10 days after received by Congress while Congress is in s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comes La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st measures introduced in the House die at which step of the lawmaking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304920" y="2714760"/>
            <a:ext cx="830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are bills introduced in the House of Representativ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ced in the Hopp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04920" y="266688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like the House, the Senate has few limits on this process of lawma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b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685800" y="26668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official that presides over the Senate in the Vice President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abse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nt Pro Tempo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loture rule can be used to end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libust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533520" y="266688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esident may do this to prevent a bill passed by Congr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e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mittee Discu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6858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esident Pro Tempore follows this official in leading the Sen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ice Presid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the current Speaker of Hou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228600" y="2666880"/>
            <a:ext cx="8610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hn Boehn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371600" y="2514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how bills are introduced in the Sen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y Individual Senato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camer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143000" y="167652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st 3 Reasons the Framers of the Constitution established a Bicameral Congr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0" y="1371600"/>
            <a:ext cx="91440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qual State Re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ecks and Balances in Lawmaking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vide Workloa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ther Answers May Be Accept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457200" y="220968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many U.S. Representatives are there total? U.S. Senato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219320" y="266688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35 Representa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Sen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0" y="26668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word for the regular period of time during which Congress conducts busines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5-02-11T14:14:19Z</dcterms:modified>
  <cp:revision>58</cp:revision>
  <dc:subject/>
  <dc:title>No Slide Title</dc:title>
</cp:coreProperties>
</file>