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7808-F0F6-4CB8-B7B4-4086BC48E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F520-EC1C-4562-B976-C157AF3C4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20ED-1E03-4AD5-8ACE-47490E4E8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ECBB-C8B6-4F2B-B033-128D3332B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15C1-5330-45C9-97C7-5224E6F96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9D8-671B-4975-BACA-5961F5B1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DF74-B7D6-493B-8889-9DEAA84F6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7A3-E743-410D-B931-BC170E73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D08-6769-46E2-A1CB-8E480BB6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27E-4C5B-49D3-B6A7-4F13469D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478-0F7C-4558-B88B-7748E1D8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73C-E3F5-492D-8866-996532D5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31A-83E6-4F57-8F74-B7450437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BB8-39C3-493D-A2FE-96550157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5C6-CE6C-4D98-A5D3-B96AE7C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B9E-1583-491F-889A-9ED7F2DE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D4D-4CAB-40FA-BAC1-58C6AE38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A25-CC92-4E79-AA84-DAA55BF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C63-BFA5-4B54-B5FB-548DB476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6B8D-5648-49DB-A3C3-F95E541E1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act that each state has fixed seats in the Senate derives from what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the Framers favored 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owed for equal representation of the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 state has at least one of these in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y on which Congressional Elections must be h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uesday after the First Monday in November (Even-Numbered Year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26668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erm length for a U.S. Representativ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19320" y="25909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2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6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23623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long must a U.S. Representative be a citizen before being eligible for offic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2860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7 years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9 years citiz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s where chosen by State Legislatures before the passing of this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7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33520" y="24382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is not a way in which the House and Senate Differ? – size, term or 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has currently has the power in the U.S.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currently has the power in the U.S. Sena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that has the sole power to impeach the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use of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enates most influential non-legislativ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ving Presidential Appoint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declare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treaties must be approved by 2/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ote from this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ing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amers included this Clause in  the Constitution allowing Congress to carry out expressed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propose Constitutional Amend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5720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shares Foreign Relation Powers with what off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uses these to divide their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n happen to a Bill if the President fails to act on it 10 days after received by Congress while Congress is in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omes La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measures introduced in the House die at which step of the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04920" y="271476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bills introduced in the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d in the Ho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04920" y="26668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like the House, the Senate has few limits on this process of law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b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fficial that presides over the Senate in the Vic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abs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oture rule can be used to en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libus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may do this to prevent a bill passed by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Pro Tempore follows this official in leading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c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Speaker of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Boeh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bills are introduced in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Individual Senat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3 Reasons the Framers of the Constitution established a Bicameral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137160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State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in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de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Answers May Be Accep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7200" y="2209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U.S. Representatives are there total? U.S.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35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2666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word for the regular period of time during which Congress conducts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2-11T14:14:19Z</dcterms:modified>
  <cp:revision>58</cp:revision>
  <dc:subject/>
  <dc:title>No Slide Title</dc:title>
</cp:coreProperties>
</file>