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10C3-6810-4A61-AF25-51FBED61A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35E8-A5BA-4E8F-B37E-7EA6B6C04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F657-4A74-4382-BC03-1F94B6FA0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5BD5-18C0-4049-A2DE-061292924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BFD4-48FA-4BB2-AE55-75D7C3604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DADE-D972-455F-A9CA-690CFEC28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D977-5044-4B79-929D-AB503E932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A73-A31F-43AB-BBB6-EBA567D6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E0D-7E58-47FA-AA99-8C202403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8A6-53EA-448C-8CE9-44903789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104-1680-4C21-B809-AF55042B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961-6F34-4EA3-A2DC-60D3F9FA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27C-B9AD-44D5-86F2-59C33189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1660-634B-4DB2-9AED-2EC1099F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351-B961-494C-AE12-C66359B7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9273-8908-4DAC-A552-3391DF2D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1FD-63F5-40F4-A4AF-F31EEE17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C3A-5443-436C-976D-245FC32B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4601-AA25-4E65-8D49-DC91BE45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8AB5-282E-47B9-B376-F061D5755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8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9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6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7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4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4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0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2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0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cumb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914400" y="2666880"/>
            <a:ext cx="7467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most widely supported plan for reforming how the President is electe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>
            <a:hlinkClick r:id="rId1" action="ppaction://hlinksldjump"/>
          </p:cNvPr>
          <p:cNvSpPr/>
          <p:nvPr/>
        </p:nvSpPr>
        <p:spPr>
          <a:xfrm>
            <a:off x="0" y="-2556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304920" y="248616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imination of the Electoral College and replaced by a Direct Popular 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>
            <a:hlinkClick r:id="rId1" action="ppaction://hlinksldjump"/>
          </p:cNvPr>
          <p:cNvSpPr/>
          <p:nvPr/>
        </p:nvSpPr>
        <p:spPr>
          <a:xfrm>
            <a:off x="468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mendment limits the President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ms to a maximum of tw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21932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57200" y="19810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t including the Vice President, what is the first cabinet position in line to become Presid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retary of S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least number of electors a state can hav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re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0" y="2133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mendment guarantees the Vice President takes over if the President is disabled and can no longer perform his/her dut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2438280" y="32004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5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762120" y="2666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major function/role of the Vice Presiden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 over Sen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3520" y="1828800"/>
            <a:ext cx="8076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did the Framers of the Constitution set up the Electoral College system for electing the Presid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85800" y="1523880"/>
            <a:ext cx="7696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Distrust of the general pub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A check &amp; balance on the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Reinforce state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ain duty of the Executi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anch is to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-1584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force the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are the Presiden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military powers shared wit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gr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President’s military powers limit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CDEHS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0880" y="1981080"/>
            <a:ext cx="8305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resident cannot declare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War Powers Resolutions limits Presidents use of troops to 60 d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204840" y="1600200"/>
            <a:ext cx="891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ower of the President allows him/her to withhold information from Congress in the interest of National Secur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981080" y="27432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ecutive Privile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a treaty and an executive agreement differ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eaties require Senate approval whereas Executive Agreements do n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914400" y="17524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United States putting sanctions on Iran to stop their nuclear weapons program is an example of what type of poli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eign Polic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371600" y="26668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olitical patron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990720" y="2666880"/>
            <a:ext cx="739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warding loyal supporters and friends with government job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ecting Presi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P and 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resident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e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Bureaucr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hecks does the President have over the Legislative Bran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Recommends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Ve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is the Government considered a bureaucra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lex system based on principles with hierarch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457200" y="21337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title given to the heads of departments within the President’s Cabine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ret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was the Civil Service create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eliminate the use of patronage &amp; provide promotion based on meri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371600" y="266688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original Cabinet Department created in 1789 to handle the nation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mone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easu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qualifications for United States Presiden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approves Cabinet appointments by the Presiden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609480" y="2133720"/>
            <a:ext cx="81536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independent agency is like a private business in that it seeks to make a prof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: US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vernment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457200" y="26668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main function of the Executive Office of the White Hou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ise President on Foreign and Domestic Mat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822492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did the number of executive departments expan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10666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rkload expanded as the country grew in territory and popul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-34920" y="-79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"/>
          <p:cNvSpPr/>
          <p:nvPr/>
        </p:nvSpPr>
        <p:spPr>
          <a:xfrm>
            <a:off x="457200" y="26668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independent agency is under direct control of the President? Ex: EP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1"/>
          <p:cNvSpPr/>
          <p:nvPr/>
        </p:nvSpPr>
        <p:spPr>
          <a:xfrm>
            <a:off x="1905120" y="281952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ecutive Agen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5 years old, 14 year resident of US, Natural Born Cit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25146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for the group of electors that picks the presiden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oral Colle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do workers answer to in a bureaucrac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gher Autho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ne check the President has over the Judicial Bran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762120" y="2514600"/>
            <a:ext cx="77724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resident appoints judges to the Supreme Court and other Federal cou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Pardon a convicted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823320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and the Constit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1066680" y="914400"/>
            <a:ext cx="716292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powers are associated with the Presidenc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does the President have more power with Foreign Policy than with Domestic Polic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600200" y="1752480"/>
            <a:ext cx="62485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next in line to take over as President after the Speaker of the Hous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Pro Tempore of the Sen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1752480" y="243828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other term for the current President in offi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5-03-02T19:21:37Z</dcterms:modified>
  <cp:revision>64</cp:revision>
  <dc:subject/>
  <dc:title>No Slide Title</dc:title>
</cp:coreProperties>
</file>