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E6EA-24D4-4A7E-A7DC-25D63F71C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E085-39AA-4074-9FF7-9EC0F17EA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3CC6-D4AC-40C8-B7BC-F73028F6E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68D0-8F3B-439D-86B6-6347E482E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16ED-0476-4E31-AFB4-F58613C07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75DA-12C3-4599-9909-23F66B364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D4BA-2C45-4F5E-AAA3-4E35F8D39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745-7D0D-4830-B57B-A9323457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4EC-B7F6-44B6-B827-F075F80F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BE3-AEAD-4729-BE14-3B7CE016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31E-3D12-4AA7-9F8E-692AB031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A85-0370-42EF-8717-B2313FCE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873-52B5-4D56-850D-00EE0697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E6F-3BC7-40E2-BD86-D1166228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8E0-9F0B-4323-81AD-6DBA7ABD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FFD-CC33-41B5-B0C4-E034297A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04D-B4BD-43BF-BB27-9FF04B2F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BF9-76C9-4E90-AC27-1E7DC156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B57-62BA-4B91-8812-89D1A27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6BB0-8496-47A6-B9DF-A18C45BFE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8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9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6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7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4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4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0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2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0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cumb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14400" y="266688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ost widely supported plan for reforming how the President is elect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-2556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304920" y="248616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imination of the Electoral College and replaced by a Direct Popular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mendment limits the President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s to a maximum of tw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21932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57200" y="19810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 including the Vice President, what is the first cabinet position in line to becom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retary of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least number of electors a state can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e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mendment guarantees the Vice President takes over if the President is disabled and can no longer perform his/her dut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2438280" y="32004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5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7621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ajor function/role of the Vice Presid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 over Sen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3520" y="182880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id the Framers of the Constitution set up the Electoral College system for electing th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1523880"/>
            <a:ext cx="7696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Distrust of the general 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A check &amp; balance on th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inforce state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in duty of the Execu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nch is t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-1584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force th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e Preside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military powers shared wi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President’s military powers limi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1981080"/>
            <a:ext cx="8305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esident cannot declar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War Powers Resolutions limits Presidents use of troops to 60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204840" y="16002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ower of the President allows him/her to withhold information from Congress in the interest of National Secur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981080" y="27432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ive Privi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a treaty and an executive agreement differ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ties require Senate approval whereas Executive Agreements do n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914400" y="17524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nited States putting sanctions on Iran to stop their nuclear weapons program is an example of what type of poli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eign Polic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2666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olitical patron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266688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warding loyal supporters and friends with government job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ing Presi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P and 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esident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Bureaucr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hecks does the President have over the Legislative Bra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commends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Ve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the Government considered a bureau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lex system based on principles with hierarch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457200" y="21337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itle given to the heads of departments within the President’s Cabin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ret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as the Civil Service creat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eliminate the use of patronage &amp; provide promotion based on mer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6668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original Cabinet Department created in 1789 to handle the nation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mone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s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qualifications for United States Presid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pproves Cabinet appointments by the Presid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609480" y="2133720"/>
            <a:ext cx="8153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independent agency is like a private business in that it seeks to make a prof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: US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457200" y="26668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ain function of the Executive Office of the White Ho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ise President on Foreign and Domestic Mat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id the number of executive departments expan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0666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load expanded as the country grew in territory and popul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-34920" y="-7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457200" y="26668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independent agency is under direct control of the President? Ex: EP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1905120" y="28195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ive Agen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 years old, 14 year resident of US, Natural Born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25146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for the group of electors that picks the presid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 Col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do workers answer to in a bureau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gher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 check the President has over the Judicial Bra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762120" y="2514600"/>
            <a:ext cx="7772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esident appoints judges to the Supreme Court and other Federal cou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ardon a convicted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and the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066680" y="914400"/>
            <a:ext cx="716292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powers are associated with the Presidenc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oes the President have more power with Foreign Policy than with Domestic Polic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600200" y="1752480"/>
            <a:ext cx="62485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next in line to take over as President after the Speaker of the Hous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Pro Tempore of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1752480" y="24382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other term for the current President in offi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5-03-02T19:21:37Z</dcterms:modified>
  <cp:revision>64</cp:revision>
  <dc:subject/>
  <dc:title>No Slide Title</dc:title>
</cp:coreProperties>
</file>