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964-BA4E-48FD-BDC4-EFBD60AB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D6FA-8DAE-4EEE-B33C-EAAFF10F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9C44-F761-47CB-9FFD-A33D59ADF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FAD-D536-419C-BDD5-A6F9D4118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414-EBE7-4D10-A9A3-F9C4FDB2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DC61-5536-4C1B-A0B7-4517FBEC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367-3DDD-4512-9424-999E9763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D74-627D-48D4-AB9E-F64A0E7A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9FA-66FE-40F6-B6E0-7FAADB62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24B-8FB4-4928-A12F-82F4EF9B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023-646A-460A-84C3-3A311280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63E-3B30-4FA3-B465-0457E40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291-A288-493B-BE52-36C1A50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A6D-E5EA-4780-92F1-BB505C38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F9C-8EEB-449F-A0C0-6F0FE421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19F-9E8F-41F1-A070-DF499587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0D6-EB01-4E93-8D45-0DF30BD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F24-BC7C-4DBA-A9BB-73D885E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C16-B51F-40CB-8C10-D476952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EED-8636-4361-BC4C-A2076059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8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9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6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7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4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4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0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2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0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cumb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14400" y="2666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widely supported plan for reforming how the President is elec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-2556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04920" y="248616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imination of the Electoral College and replaced by a Direct Popular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mendment limits the President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s to a maximum of tw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93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981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including the Vice President, what is the first cabinet position in line to becom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 of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east number of electors a state can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uarantees the Vice President takes over if the President is disabled and can no longer perform his/her du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438280" y="32004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621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jor function/role of the Vice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 over Sen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3520" y="18288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Framers of the Constitution set up the Electoral College system for electing th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523880"/>
            <a:ext cx="7696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Distrust of the general 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A check &amp; balance on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inforce stat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duty of the Execu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 is t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force th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ilitary powers shared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President’s military powers limi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cannot declar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ar Powers Resolutions limits Presidents use of troops to 60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04840" y="16002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wer of the President allows him/her to withhold information from Congress in the interest of National Secur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8108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Privi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a treaty and an executive agreement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ies require Senate approval whereas Executive Agreement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91440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putting sanctions on Iran to stop their nuclear weapons program is an example of what type of poli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Polic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litical patron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2666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warding loyal supporters and friends with government job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ng P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P and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esident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ureauc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hecks does the President have over the Legislative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commend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the Government considered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x system based on principles with hierarch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57200" y="2133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itle given to the heads of departments within the President’s Cabi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as the Civil Service crea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eliminate the use of patronage &amp; provide promotion based on mer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riginal Cabinet Department created in 1789 to handle the nati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one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qualifications for United States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pproves Cabinet appointments by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09480" y="2133720"/>
            <a:ext cx="8153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like a private business in that it seeks to make a prof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: US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2666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in function of the Executive Office of the White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ise President on Foreign and Domestic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number of executive departments expan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0666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load expanded as the country grew in territory and 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-34920" y="-7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572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under direct control of the President? Ex: E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905120" y="2819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Agen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 years old, 14 year resident of US, Natural Born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2514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for the group of electors that picks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workers answer to in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check the President has over the Judicial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62120" y="251460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appoints judges to the Supreme Court and other Federal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rdon a convict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and 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066680" y="914400"/>
            <a:ext cx="71629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owers are associated with the Presid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es the President have more power with Foreign Policy than with Domestic Polic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next in line to take over as President after the Speaker of the Hou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of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other term for the current President in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3-02T19:21:37Z</dcterms:modified>
  <cp:revision>64</cp:revision>
  <dc:subject/>
  <dc:title>No Slide Title</dc:title>
</cp:coreProperties>
</file>