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A94E-F406-455F-8FA0-7ED6F07BB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C9DD-F76D-4916-839D-B52C5C324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F36A-5BDF-481D-8402-B1D1E36F3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D251-17FD-418E-B003-17F7F4150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9B31-214A-4C5D-94A9-B2E1E4287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EEB4-6C80-4578-9715-B77F6BB26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482F-B9AF-4D47-AA72-D826159E5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4E8-DFCA-4CDF-8806-AA74F1BD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996-2C0F-4860-BF22-287FCB0D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815-2BAC-454B-A587-6E56AA2F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788-7C23-45BE-B212-6A76B973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011-B33F-4A5A-9DD5-C2B2DE31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03A-5D98-4464-A7DE-AF063CC9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F607-AECC-4CDD-9600-011DA56A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F8C-B8E8-4E1F-AB2F-B6C4E384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282-466B-476F-AEC5-45F86F3D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D46-D8EF-4838-AA60-0170FC82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7CA-CCCC-4907-BDBA-69CD3E62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5CE-23DE-458C-9225-18057D39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078C-F3F8-4D44-9BEF-849B1ED7F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8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9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6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7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4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4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0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2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0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cumb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14400" y="2666880"/>
            <a:ext cx="746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ost widely supported plan for reforming how the President is electe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>
            <a:hlinkClick r:id="rId1" action="ppaction://hlinksldjump"/>
          </p:cNvPr>
          <p:cNvSpPr/>
          <p:nvPr/>
        </p:nvSpPr>
        <p:spPr>
          <a:xfrm>
            <a:off x="0" y="-2556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304920" y="248616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imination of the Electoral College and replaced by a Direct Popular 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>
            <a:hlinkClick r:id="rId1" action="ppaction://hlinksldjump"/>
          </p:cNvPr>
          <p:cNvSpPr/>
          <p:nvPr/>
        </p:nvSpPr>
        <p:spPr>
          <a:xfrm>
            <a:off x="468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mendment limits the President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ms to a maximum of tw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21932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57200" y="19810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t including the Vice President, what is the first cabinet position in line to become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retary of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least number of electors a state can hav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re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0" y="2133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mendment guarantees the Vice President takes over if the President is disabled and can no longer perform his/her dut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2438280" y="32004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5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7621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ajor function/role of the Vice Presid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 over Sen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3520" y="1828800"/>
            <a:ext cx="8076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id the Framers of the Constitution set up the Electoral College system for electing the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85800" y="1523880"/>
            <a:ext cx="7696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Distrust of the general pub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A check &amp; balance on th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Reinforce state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in duty of the Executi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anch is to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-1584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force the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re the Preside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military powers shared wi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President’s military powers limit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1981080"/>
            <a:ext cx="8305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resident cannot declar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War Powers Resolutions limits Presidents use of troops to 60 d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204840" y="160020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ower of the President allows him/her to withhold information from Congress in the interest of National Secur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981080" y="27432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cutive Privile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a treaty and an executive agreement differ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aties require Senate approval whereas Executive Agreements do n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914400" y="17524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United States putting sanctions on Iran to stop their nuclear weapons program is an example of what type of poli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eign Polic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371600" y="26668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olitical patron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90720" y="2666880"/>
            <a:ext cx="739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warding loyal supporters and friends with government job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ecting Presi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P and 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esident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Bureaucr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hecks does the President have over the Legislative Bran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Recommends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Ve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the Government considered a bureaucra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lex system based on principles with hierarch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457200" y="21337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itle given to the heads of departments within the President’s Cabin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ret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was the Civil Service create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eliminate the use of patronage &amp; provide promotion based on meri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71600" y="266688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original Cabinet Department created in 1789 to handle the nation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mone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asu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qualifications for United States Presid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pproves Cabinet appointments by the Presiden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609480" y="2133720"/>
            <a:ext cx="81536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independent agency is like a private business in that it seeks to make a prof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: US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457200" y="26668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ain function of the Executive Office of the White Hou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ise President on Foreign and Domestic Mat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id the number of executive departments expan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10666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rkload expanded as the country grew in territory and popul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-34920" y="-7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457200" y="26668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independent agency is under direct control of the President? Ex: EP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1"/>
          <p:cNvSpPr/>
          <p:nvPr/>
        </p:nvSpPr>
        <p:spPr>
          <a:xfrm>
            <a:off x="1905120" y="28195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cutive Agen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5 years old, 14 year resident of US, Natural Born Cit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25146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for the group of electors that picks the presiden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oral Colle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do workers answer to in a bureaucra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gher Auth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ne check the President has over the Judicial Bran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762120" y="2514600"/>
            <a:ext cx="77724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resident appoints judges to the Supreme Court and other Federal cou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ardon a convicted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and the Constit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066680" y="914400"/>
            <a:ext cx="716292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powers are associated with the Presidenc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oes the President have more power with Foreign Policy than with Domestic Polic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600200" y="1752480"/>
            <a:ext cx="62485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next in line to take over as President after the Speaker of the Hous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Pro Tempore of the 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1752480" y="243828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other term for the current President in offi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5-03-02T19:21:37Z</dcterms:modified>
  <cp:revision>64</cp:revision>
  <dc:subject/>
  <dc:title>No Slide Title</dc:title>
</cp:coreProperties>
</file>