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046A-CA2B-4143-AB37-7F5C9A4F5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B333-740F-4EEF-9035-9A5C5DA0A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1EAE-25B4-4938-9B2C-53D770C76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2BCB-5E30-4350-99AF-29250CEBC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575D-191D-4DD4-A10F-C28361A0E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F6D1-64F9-48FC-A5F1-9B950F931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87CD-9C96-46E1-970A-056EC69A6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4389-D95E-4C72-96DB-2E01F235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9420-ABEA-4BBB-84B8-29C97C45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1B03-9507-4FEB-8D74-AB2ECADE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33DC-BC59-4156-B9DF-B15A52A4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6B9E-D57A-4D41-A3AF-CD27FC45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CAF7-FFC1-4D58-BD75-E9201222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265B-AF72-40D3-B8B4-A479B653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0E45-7C27-48C9-8527-90C05A38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F686-0DAB-4173-A35B-44154C26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EF6A-7BD5-44BC-8DA4-79893E40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5D37-87A9-477B-A5E0-05DF1100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0AB2-7C64-42B3-A0FA-CC36D949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E979-68CF-4FC2-8E4F-BA846CD46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8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9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6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7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4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4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0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2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0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cumb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914400" y="2666880"/>
            <a:ext cx="7467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most widely supported plan for reforming how the President is elected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>
            <a:hlinkClick r:id="rId1" action="ppaction://hlinksldjump"/>
          </p:cNvPr>
          <p:cNvSpPr/>
          <p:nvPr/>
        </p:nvSpPr>
        <p:spPr>
          <a:xfrm>
            <a:off x="0" y="-2556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304920" y="248616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imination of the Electoral College and replaced by a Direct Popular v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>
            <a:hlinkClick r:id="rId1" action="ppaction://hlinksldjump"/>
          </p:cNvPr>
          <p:cNvSpPr/>
          <p:nvPr/>
        </p:nvSpPr>
        <p:spPr>
          <a:xfrm>
            <a:off x="468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mendment limits the President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rms to a maximum of tw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21932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mend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57200" y="198108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t including the Vice President, what is the first cabinet position in line to become Presid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cretary of St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least number of electors a state can hav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re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0" y="2133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mendment guarantees the Vice President takes over if the President is disabled and can no longer perform his/her duti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2438280" y="32004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5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762120" y="26668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major function/role of the Vice President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 over Senat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33520" y="1828800"/>
            <a:ext cx="8076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did the Framers of the Constitution set up the Electoral College system for electing the Presid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685800" y="1523880"/>
            <a:ext cx="7696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Distrust of the general publ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A check &amp; balance on the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Reinforce state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ain duty of the Executiv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anch is to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-1584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force the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are the President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military powers shared wit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gr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are President’s military powers limit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CDEHS 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80880" y="1981080"/>
            <a:ext cx="8305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resident cannot declare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War Powers Resolutions limits Presidents use of troops to 60 d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204840" y="1600200"/>
            <a:ext cx="8915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power of the President allows him/her to withhold information from Congress in the interest of National Secur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1981080" y="274320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ecutive Privile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371600" y="26668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are a treaty and an executive agreement differ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eaties require Senate approval whereas Executive Agreements do n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914400" y="175248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United States putting sanctions on Iran to stop their nuclear weapons program is an example of what type of polic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reign Polic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371600" y="26668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political patrona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990720" y="2666880"/>
            <a:ext cx="739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warding loyal supporters and friends with government job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lecting Presi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P and 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resident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e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Bureaucr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checks does the President have over the Legislative Bran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371600" y="2666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Recommends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Ve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is the Government considered a bureaucrac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lex system based on principles with hierarch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457200" y="213372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title given to the heads of departments within the President’s Cabine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cret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was the Civil Service created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eliminate the use of patronage &amp; provide promotion based on meri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371600" y="266688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original Cabinet Department created in 1789 to handle the nation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mone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easu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qualifications for United States President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approves Cabinet appointments by the Presiden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609480" y="2133720"/>
            <a:ext cx="81536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ype of independent agency is like a private business in that it seeks to make a profi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: US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vernment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457200" y="266688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main function of the Executive Office of the White Hou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ise President on Foreign and Domestic Mat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371600" y="2666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did the number of executive departments expand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1066680" y="2666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orkload expanded as the country grew in territory and popul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-34920" y="-79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1"/>
          <p:cNvSpPr/>
          <p:nvPr/>
        </p:nvSpPr>
        <p:spPr>
          <a:xfrm>
            <a:off x="457200" y="266688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ype of independent agency is under direct control of the President? Ex: EP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Box 1"/>
          <p:cNvSpPr/>
          <p:nvPr/>
        </p:nvSpPr>
        <p:spPr>
          <a:xfrm>
            <a:off x="1905120" y="281952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ecutive Agen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5 years old, 14 year resident of US, Natural Born Citi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57200" y="251460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ame for the group of electors that picks the presiden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823320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oral Colle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823320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228600" y="26668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do workers answer to in a bureaucrac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gher Author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6858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one check the President has over the Judicial Bran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823320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762120" y="2514600"/>
            <a:ext cx="77724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resident appoints judges to the Supreme Court and other Federal cou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ardon a convicted per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823320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and the Constit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1066680" y="914400"/>
            <a:ext cx="716292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powers are associated with the Presidenc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does the President have more power with Foreign Policy than with Domestic Polic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600200" y="1752480"/>
            <a:ext cx="62485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next in line to take over as President after the Speaker of the Hous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Pro Tempore of the Sen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1752480" y="243828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other term for the current President in offic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5-03-02T19:21:37Z</dcterms:modified>
  <cp:revision>64</cp:revision>
  <dc:subject/>
  <dc:title>No Slide Title</dc:title>
</cp:coreProperties>
</file>