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BAE-3214-4D4F-953D-177D689D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10E-9B0C-4CE5-B8F7-2F39E8F2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E931-8DF4-466C-B04F-12653491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80C-D770-4A6F-93A6-390ACC26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C16-C041-4A82-A50D-BE803ED8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6DB0-CD03-4949-BDB7-740299207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189-E486-4AF3-96E5-171AD98F0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521-D282-47ED-A51B-F7A5B318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8E7-C6C7-4519-9A01-C782356C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F97-0596-4CFC-8095-4AA69F9C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189-16DB-4F4A-90B7-618F8AB8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63-5D61-49B9-ACA9-A7B5A8DC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A25-1D5C-407D-93B4-0487E710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DF1-8E74-4B89-A864-EAFFBF0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12B-F5C2-4EA2-B84A-7F471E5B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2B4-C983-4ED3-9CC8-C7F5239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043-B148-4875-8080-B6ABD6D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EC3-287A-436E-9A37-E68CD2E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52E-8828-4328-AFE6-A8E8170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9D1-8649-45C6-A426-1C54337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54D3-62A9-40AB-97F1-952E8DF5B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Robe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factors that impact a Supreme Court judges decision on a ca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914400"/>
            <a:ext cx="6476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/Existing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action with other ju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sonal beliefs/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ident &amp; Con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 of a Supreme Court judge that disagrees with the maj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senting opi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the term length of Federal Court Judge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first hears a case has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erson bringing a charge against another person in a civil cas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 court that exercises original and appellate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are court cases nam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intiff vs. Defenda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ase ruled that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as unconstitution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own v. Board of Educa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deon v. Wainright established what precedent for those accused of a crim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uaranteed right to a lawy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ssy v. Ferguson ruled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RL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e but equa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segregation was o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ight to privacy has been debated most in cases involving this issu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bortion: Roe v. Wa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nstitutional rights did the case Mapp v. Ohio uph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520" y="16765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: Protection against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14400" y="2666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has the Supreme Court justified the government taking away citizens Constitutional righ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2666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s of war: Korematsu v. U.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were individual rights included in the Constitution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vide protection from the government &amp; individuals argued for th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udicial Ba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u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.C.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ivil Lib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ouble jeopard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2971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ing tried for the same crime twice; it is Unconstitu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African American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urgood Mars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stitution states that no person can be denied this under the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l Prote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wish to take your case to a higher court you mu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urt that has the right to hear appeals h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ellate Jurisdi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rm length of constitutional court judg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stices who strictly follow the Constitution when deciding cases practi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Restra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 where federal questions are last deci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egal search must have a warrant or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le Ca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ate courts does the federal government have power over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914400" y="259092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anch of government that the Articles of Confederation did not includ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has ruled that schools have the right to search students possessions…why do schools have this righ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and promote a safe learning environmen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the first female Supreme Court ju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ndra Day O’Con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jurisdiction do Federal District Court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iginal Jurisdic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Cou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04920" y="1676520"/>
            <a:ext cx="83055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an independent judiciary essential to American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137160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y unbi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main free of pol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 and balance’ the other two bra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ly interpret Constitutionality of la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600200" y="1752480"/>
            <a:ext cx="6248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case established the power of Judicial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curren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4-05T12:12:29Z</dcterms:modified>
  <cp:revision>61</cp:revision>
  <dc:subject/>
  <dc:title>No Slide Title</dc:title>
</cp:coreProperties>
</file>