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927B-969D-4E39-93F6-17FF3FE40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BDFB-E4C7-48B4-A7B2-0A7A9AF71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B3E3-CBCC-4A46-80C9-E65C7EBBF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52A4-C89F-432D-8153-019F93659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DC56-7F01-444A-A146-CFE70DDB1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6961-C23E-486E-8C07-3A2A40CE7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F766-91D5-4451-BB20-584F59D68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9A41-DBD0-45F8-BB7A-69F30179F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B7D-4C1E-41BC-AD4C-61364C6B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8A0-A051-4337-8990-CFC18709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F01-1C5B-4944-84E8-0C876B2F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1A6-0509-49BE-9FE5-B183F36F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85B-84B1-44E5-A8CF-58756215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B8C-45D5-430F-A8B7-4DCF0473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1C8-D898-49E7-90CC-2D65F538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976-1A37-4C14-AB46-EB0E2265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36F-B3E3-420C-AD6A-031AAE24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8486-2CB2-440B-A1E4-E3B71EBD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4C34-C749-4CC7-B3E6-4795498F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A77-D706-4264-AAEC-003D1B35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2E88-351C-419F-9E00-8C179D462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Robe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266688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factors that impact a Supreme Court judges decision on a ca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447920" y="914400"/>
            <a:ext cx="64767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/Existing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action with other jud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sonal beliefs/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ie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&amp; Con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on of a Supreme Court judge that disagrees with the maj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senting opin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s the term length of Federal Court Judge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ourt that first hears a case has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iginal Jurisdic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erson bringing a charge against another person in a civil cas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intiff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 court that exercises original and appellate jurisdic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preme Cour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22860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court cases name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intiff vs. Defendan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case ruled that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e but equal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as unconstitution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own v. Board of Educ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ideon v. Wainright established what precedent for those accused of a crim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uaranteed right to a lawy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essy v. Ferguson ruled tha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RL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e but equal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r segregation was o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ight to privacy has been debated most in cases involving this issu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bortion: Roe v. Wad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onstitutional rights did the case Mapp v. Ohio uphe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533520" y="167652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: Protection against unreasonable searches and seiz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914400" y="26668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has the Supreme Court justified the government taking away citizens Constitutional righ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28600" y="2666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imes of war: Korematsu v. U.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were individual rights included in the Constitution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vide protection from the government &amp; individuals argued for them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Judicial Ba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ur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.C.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ivil Lib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double jeopard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380880" y="29718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ing tried for the same crime twice; it is Unconstitut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the first African American Supreme Court jud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urgood Marsh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914400" y="24382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nstitution states that no person can be denied this under the law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qual Protec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wish to take your case to a higher court you mus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e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ourt that has the right to hear appeals ha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ellate Jurisdi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rm length of constitutional court judg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ustices who strictly follow the Constitution when deciding cases practic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udicial Restrai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ce where federal questions are last decid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preme Cou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egal search must have a warrant or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bable Ca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state courts does the federal government have power over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666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914400" y="259092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ranch of government that the Articles of Confederation did not includ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udi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f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266688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preme Court has ruled that schools have the right to search students possessions…why do schools have this righ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provide and promote a safe learning environmen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the first female Supreme Court jud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andra Day O’Conn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jurisdiction do Federal District Courts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iginal Jurisdic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.S. Cour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304920" y="1676520"/>
            <a:ext cx="83055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an independent judiciary essential to American govern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0" y="137160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y unbia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main free of poli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 and balance’ the other two bra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eely interpret Constitutionality of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600200" y="1752480"/>
            <a:ext cx="62485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upreme Court case established the power of Judicial 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bury v. Mad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15228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762120" y="26668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the current Chief Justice of the U.S. Supreme Cour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3-04-05T12:12:29Z</dcterms:modified>
  <cp:revision>61</cp:revision>
  <dc:subject/>
  <dc:title>No Slide Title</dc:title>
</cp:coreProperties>
</file>