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25AD-C446-4505-A014-663EC1897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F0F0-3DEB-400B-BF46-833D82319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EFCD-52BF-4F3D-8759-86F13B752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7B9E-B7A5-4EC3-8116-235433D15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8891-DCFD-4299-B77A-264581579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073B-C404-4FF2-8BAA-5AD15B567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66DA-24A9-466A-BB7E-9C8DAC4CA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6C49-DC40-45C6-A70A-03959FDA6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E261-63CF-49A9-969C-F2B5ADE0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5903-7957-42FD-B1BF-664D19E2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DCF7-5DBB-441E-B870-0291BB8F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DB00-7C91-4E76-99E0-FA4346E2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FA0-9F6E-44E4-BAF2-F0E412A2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ABD-E1F3-464B-B74C-515E9494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8EFF-EF76-40E7-82BB-47446D4A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0142-FFEA-4EA7-A125-B4F6D9CC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D334-B7A0-43C6-B8A6-F4C0B3FF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94A-4A12-4B6D-A11E-457DC8B1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2EFB-88E7-4A40-8FDD-C71F4933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E143-9807-455E-8A4C-DE4E6F74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F964-129F-4F8B-84FB-C84C70C9D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Robe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2666880"/>
            <a:ext cx="670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factors that impact a Supreme Court judges decision on a ca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447920" y="914400"/>
            <a:ext cx="64767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/Existing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raction with other jud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rsonal beliefs/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cie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&amp; Con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inion of a Supreme Court judge that disagrees with the major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ssenting opin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55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termines the term length of Federal Court Judge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ourt that first hears a case has thi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iginal Jurisdic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erson bringing a charge against another person in a civil cas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intiff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ederal court that exercises original and appellate jurisdiction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preme Cour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22860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re court cases name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intiff vs. Defendan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8380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case ruled that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parate but equal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as unconstitution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own v. Board of Educ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ideon v. Wainright established what precedent for those accused of a crim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uaranteed right to a lawy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essy v. Ferguson ruled tha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RL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parate but equal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r segregation was o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371600" y="266688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ight to privacy has been debated most in cases involving this issu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bortion: Roe v. Wad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371600" y="26668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Constitutional rights did the case Mapp v. Ohio uphe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533520" y="167652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: Protection against unreasonable searches and seiz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914400" y="266688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has the Supreme Court justified the government taking away citizens Constitutional righ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28600" y="2666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imes of war: Korematsu v. U.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were individual rights included in the Constitution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vide protection from the government &amp; individuals argued for them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Judicial Ba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ur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.C.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ivil Lib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6212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double jeopard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380880" y="29718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ing tried for the same crime twice; it is Unconstitution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the first African American Supreme Court jud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urgood Marsh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914400" y="243828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nstitution states that no person can be denied this under the law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qual Protection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wish to take your case to a higher court you must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e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ourt that has the right to hear appeals ha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ellate Jurisdi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erm length of constitutional court judge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ustices who strictly follow the Constitution when deciding cases practic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udicial Restrai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ce where federal questions are last decid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preme Cour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legal search must have a warrant or thi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bable Cau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66688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state courts does the federal government have power over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66680" y="26668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914400" y="259092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ranch of government that the Articles of Confederation did not includ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udici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f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85800" y="266688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upreme Court has ruled that schools have the right to search students possessions…why do schools have this righ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provide and promote a safe learning environmen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the first female Supreme Court jud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andra Day O’Conn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jurisdiction do Federal District Courts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iginal Jurisdiction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.S. Court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304920" y="1676520"/>
            <a:ext cx="83055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is an independent judiciary essential to American govern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0" y="1371600"/>
            <a:ext cx="9144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y unbia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main free of poli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 and balance’ the other two bran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eely interpret Constitutionality of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600200" y="1752480"/>
            <a:ext cx="62485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upreme Court case established the power of Judicial Re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bury v. Mad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15228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762120" y="26668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the current Chief Justice of the U.S. Supreme Cour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3-04-05T12:12:29Z</dcterms:modified>
  <cp:revision>61</cp:revision>
  <dc:subject/>
  <dc:title>No Slide Title</dc:title>
</cp:coreProperties>
</file>