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080B-5107-4B9E-AFCC-E8191E08E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A7E2-5C2E-4A1F-9AFC-84FEEF039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CF7D-B87C-4421-B711-C61FC8739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F5E2-DFD4-4027-9281-56F5EC2E4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2612-6FD0-43FA-B0A5-BD7DFF926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B648-5882-4973-A36A-1E99909C1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A373-FD60-47CF-8666-3DF5EA9B4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543F-1F59-4E64-A104-3ECC44A71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723-13C3-4708-BA48-40303D10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581-BF3F-4F24-B890-3ECC35F6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73A-DF34-4744-92FC-ACA60F75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C3A-81FC-427B-9F50-10D493CF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8C5-1F8C-40C8-A996-10E21E0B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118-7C19-4BF0-BDD2-172CF2DF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C7F-3CA6-44DF-BC5C-7489511A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CC1-78D6-4095-B628-41F9E7BA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6C4-31AE-4261-AE1F-73AFB98D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5DD-B515-414C-9BBB-BACAB5A0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E4C-AE48-46D6-8A2F-8156DB24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A4F-EA5A-4F7A-B69C-06E6530E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B13A-47D9-4B82-B9E2-C51FE601D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Robe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factors that impact a Supreme Court judges decision on a ca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447920" y="914400"/>
            <a:ext cx="6476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/Existing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action with other jud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sonal beliefs/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e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&amp; 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 of a Supreme Court judge that disagrees with the maj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senting opin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the term length of Federal Court Judg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urt that first hears a case has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ginal Jurisdic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erson bringing a charge against another person in a civil cas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intif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 court that exercises original and appellate jurisdi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reme Cour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2286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court cases nam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intiff vs. Defenda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ase ruled that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e but equa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as unconstitution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own v. Board of Edu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deon v. Wainright established what precedent for those accused of a crim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uaranteed right to a lawy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ssy v. Ferguson ruled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RL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e but equa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 segregation was o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ight to privacy has been debated most in cases involving this issu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bortion: Roe v. Wa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onstitutional rights did the case Mapp v. Ohio uphe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3520" y="167652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: Protection against unreasonable searches and seiz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1440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has the Supreme Court justified the government taking away citizens Constitutional righ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2860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mes of war: Korematsu v. U.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ere individual rights included in the Constitutio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vide protection from the government &amp; individuals argued for them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udicial Ba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ur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.C.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ivil Lib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ouble jeopard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80880" y="29718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ing tried for the same crime twice; it is Unconstitut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the first African American Supreme Court ju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urgood Mars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914400" y="2438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stitution states that no person can be denied this under the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 Prote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wish to take your case to a higher court you mus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e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urt that has the right to hear appeals h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ellate Jurisdi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rm length of constitutional court judg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stices who strictly follow the Constitution when deciding cases practi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l Restrai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 where federal questions are last deci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egal search must have a warrant or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able C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tate courts does the federal government have power over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914400" y="259092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ranch of government that the Articles of Confederation did not includ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preme Court has ruled that schools have the right to search students possessions…why do schools have this righ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ovide and promote a safe learning environme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the first female Supreme Court ju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ndra Day O’Con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jurisdiction do Federal District Court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ginal Jurisdi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.S. Cour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304920" y="1676520"/>
            <a:ext cx="83055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an independent judiciary essential to American gover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0" y="137160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y unbi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main free of pol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 and balance’ the other two bra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ly interpret Constitutionality of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1752480"/>
            <a:ext cx="6248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case established the power of Judicial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bury v. Mad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15228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26668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current Chief Justice of the U.S. Supreme Cou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3-04-05T12:12:29Z</dcterms:modified>
  <cp:revision>61</cp:revision>
  <dc:subject/>
  <dc:title>No Slide Title</dc:title>
</cp:coreProperties>
</file>