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0C6-9D5D-46F5-8462-9BAF4614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95B-B562-4031-BF1F-33B4D9E0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B979-158C-4D56-939C-AA7875C7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2F5-62C7-4E07-B78C-2267294E8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2838-08D5-44A1-ACD0-9F3D7240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EA0A-F52A-493C-A1AE-A631CB34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822-2E2A-4E98-900A-DDA63EDF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05B-6058-4DBE-8427-A6D0844D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080-192B-4863-AFC4-C16937DB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669-19C7-41B9-B3F8-3E989615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B64-33B7-4768-82AC-6D2B204F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ED7-93D8-432D-994B-BAD24D14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B0C-407C-45AA-83C1-83FE36F2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BC0-5AA5-4A6E-B73E-20AB23C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1DD-460D-4CDD-86EB-D5BCB8F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E33-324F-4BF6-A0CE-F906E0E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825-26F7-4E7C-9BBA-2372E1AC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289-8600-4BAE-8DE0-1949FE0E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69C-D74A-4F85-8DEE-3261433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349-6668-4EA9-B6E1-187F993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E653-5E60-4B4E-A90D-2A8B3E500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Robe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factors that impact a Supreme Court judges decision on a c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914400"/>
            <a:ext cx="6476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/Existing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action with other ju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sonal beliefs/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&amp;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 of a Supreme Court judge that disagrees with the maj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senting opi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the term length of Federal Court Judg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first hears a case has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erson bringing a charge against another person in a civil cas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 court that exercises original and appellate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court cases nam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vs. Defenda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se ruled that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as unconstitution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wn v. Board of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established what precedent for those accused of a crim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uaranteed right to a lawy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ssy v. Ferguson ruled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RL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egregation was 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ight to privacy has been debated most in cases involving this issu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rtion: Roe v. Wa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nstitutional rights did the case Mapp v. Ohio uph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16765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: Protection against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144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has the Supreme Court justified the government taking away citizens Constitutional ri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s of war: Korematsu v.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ere individual rights included in the Constitutio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de protection from the government &amp; individuals argued for th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dicial Ba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u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.C.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vil Lib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2971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tried for the same crime twice; it is Unconstitu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African American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urgood Mars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 states that no person can be denied this under the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Prote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wish to take your case to a higher court you mu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has the right to hear appeals h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llate Jurisdi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rm length of constitutional court judg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stices who strictly follow the Constitution when deciding cases pract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Restra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 where federal questions are last deci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egal search must have a warrant or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le C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ate courts does the federal government have power over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14400" y="2590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anch of government that the Articles of Confederation did not includ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has ruled that schools have the right to search students possessions…why do schools have this righ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and promote a safe learning environm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female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ndra Day O’Con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jurisdiction do Federal District Court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Cou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04920" y="1676520"/>
            <a:ext cx="8305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an independent judiciary essential to American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137160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y unbi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ain free of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 and balance’ the other two bra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ly interpret Constitutionality of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the power of Judicial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4-05T12:12:29Z</dcterms:modified>
  <cp:revision>61</cp:revision>
  <dc:subject/>
  <dc:title>No Slide Title</dc:title>
</cp:coreProperties>
</file>