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A6F9-A993-4BE0-A391-043B82A5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D6D1-80D4-4C5D-BD57-92F742A0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2B9F-B772-4BCB-95A0-81419AC2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D9E-CF22-4EE8-97BD-CA606AD55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FA2F-0E34-4487-9FC2-6C863DB36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32FF-C700-410D-8C25-1901378E5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DA7F-EBCE-4EF9-9C8A-F9059C6B3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C958-A6FD-4D22-8D57-2AA754B0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624-CC71-4F3F-8B9F-6A900B38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CD2-8C5D-4233-BC99-A5990224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350-0D7D-42FB-955C-DA34FF4E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473-B7A5-4116-BB03-F7ABEF9F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318-CB5F-4112-8AE5-D1FA9AE0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79C-0AFC-4668-9ABD-2902050E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74D-7770-406B-896E-940EEAC0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089-985D-4B17-9ED9-73D97B45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C24-5F47-4AA9-B4D5-93966D8B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509-5A5E-4D2A-A762-D0E33DAE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1A6-2672-46D7-8D4C-43E6C901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2EF-E805-4452-A0CD-2628E7D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2713-DB18-4C4C-BB49-902D0D09E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Robe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factors that impact a Supreme Court judges decision on a ca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7920" y="914400"/>
            <a:ext cx="6476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/Existing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action with other ju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sonal beliefs/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&amp;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 of a Supreme Court judge that disagrees with the maj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senting opi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the term length of Federal Court Judg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first hears a case has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erson bringing a charge against another person in a civil cas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 court that exercises original and appellate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court cases nam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vs. Defenda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se ruled that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as unconstitution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own v. Board of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established what precedent for those accused of a crim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uaranteed right to a lawy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ssy v. Ferguson ruled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RL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segregation was o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ight to privacy has been debated most in cases involving this issu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rtion: Roe v. Wa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onstitutional rights did the case Mapp v. Ohio uph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167652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: Protection against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144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has the Supreme Court justified the government taking away citizens Constitutional righ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mes of war: Korematsu v.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ere individual rights included in the Constitutio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de protection from the government &amp; individuals argued for th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udicial Ba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ur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.C.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vil Lib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29718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tried for the same crime twice; it is Unconstitu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African American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urgood Mars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 states that no person can be denied this under the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Prote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wish to take your case to a higher court you mus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has the right to hear appeals h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llate Jurisdi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rm length of constitutional court judg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stices who strictly follow the Constitution when deciding cases pract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Restrai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 where federal questions are last deci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egal search must have a warrant or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able C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ate courts does the federal government have power over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914400" y="25909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ranch of government that the Articles of Confederation did not includ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has ruled that schools have the right to search students possessions…why do schools have this righ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ovide and promote a safe learning environm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female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ndra Day O’Con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jurisdiction do Federal District Court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Cour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304920" y="1676520"/>
            <a:ext cx="83055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an independent judiciary essential to American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137160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y unbi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ain free of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 and balance’ the other two bra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ly interpret Constitutionality of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the power of Judicial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2666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Chief Justice of the U.S. Supreme Cou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4-05T12:12:29Z</dcterms:modified>
  <cp:revision>61</cp:revision>
  <dc:subject/>
  <dc:title>No Slide Title</dc:title>
</cp:coreProperties>
</file>