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AE53-E473-4396-A299-F2706C24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3442-5227-4DB9-BC04-D501477C2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6AD6-58D9-490D-B5ED-9530EDFEA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0247-4EB2-41AD-9F4F-42B9DF0AE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7782-DD94-4283-B495-171DB42D0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7913-7D6B-4142-814E-15AAE9383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1726-55BF-4064-BA2B-306A9B7F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642-121D-4305-B299-B294C7CF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8D8-150D-49A5-B820-54587829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74B-67B2-448B-97EC-A22C11C8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409-7F81-4DA1-867D-8BEC070B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3DA-2115-4155-B52B-7A72B912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4CA-7F60-4DF1-A10E-3075E0C2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6D3-084B-4332-A796-B7217F90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C01-10C9-4643-9DE9-7BBD68AD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755-99E9-431F-918A-8C0EB5CD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DF2-8452-4F0A-B958-D7DF1D4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713-BB6D-4C40-AFCB-6AD49780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3E2-DB4F-40D8-8D9D-8DA1E677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194A-AE70-429C-B8BE-CA0417820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Wolf, Democr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-33480" y="126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1219320" y="3124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Federalism important for state and local govern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Garrett Bull</cp:lastModifiedBy>
  <dcterms:modified xsi:type="dcterms:W3CDTF">2015-04-23T12:01:08Z</dcterms:modified>
  <cp:revision>59</cp:revision>
  <dc:subject/>
  <dc:title>No Slide Title</dc:title>
</cp:coreProperties>
</file>