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08A8-9E9D-4472-A572-DA07AE0C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6CCB-37FD-4350-90F9-6ED8031A4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61C-5557-45E4-B5F2-B7A362C8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5001-5112-4514-AF33-D58EA723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6DD8-0CBE-4C0E-B07B-65BC4B6C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A57-C773-4FF8-B1AE-567FEB17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CCBA-0526-4A84-84FF-454B20AA6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500-28CA-4678-8B0F-C5632B25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1CD-E757-48AC-9E0C-88A89782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9FE-1578-4E59-A286-5A82F0B2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C66-BBA4-4B95-AD65-5247B54D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53D-1FC5-45C5-9553-270C768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DB7-A2B2-40FC-B1D3-80C8B4C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EA4-1D95-456D-875F-8C5871F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757-9EFE-4032-88C4-E4487C5A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F6E-7F3A-41AF-9A39-9F5A000A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DC9-FECA-42FB-BEDB-1B16207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D90-5160-47A9-AAB1-551FF29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DE9-382C-4E89-B257-E5C102E0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B5BF-4F70-4B25-92B7-6C032677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Wolf, Democr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-33480" y="12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19320" y="3124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ederalism important for state and local govern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Garrett Bull</cp:lastModifiedBy>
  <dcterms:modified xsi:type="dcterms:W3CDTF">2015-04-23T12:01:08Z</dcterms:modified>
  <cp:revision>59</cp:revision>
  <dc:subject/>
  <dc:title>No Slide Title</dc:title>
</cp:coreProperties>
</file>