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E881-A171-4617-B9E9-A045468B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8323-B835-418B-9401-2FBC1D6AB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851A-C506-4E4D-A3DB-57D0AAF62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4A96-577B-4A87-81B0-BC5F56371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BF04-1903-4A21-BB95-ED84B394F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EFCC-3145-47E9-8338-5893996E5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47DB-8AE5-4939-BADD-2A36B966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7F7-027B-481B-853E-296B9965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678-DED9-4B90-B7D0-9B06DC74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84C-4B6B-45CB-8DC0-4C27B58A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83D-E2D6-480C-8657-4F0CCE18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052-F2B2-43B6-806D-B61D082C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2B4-EFE1-48AF-9A32-5C7F5794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E5A-67FD-4761-AEE1-B630BA84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62C-0BBA-4842-9439-F1B381A2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637-1FBC-49A1-85C3-49CEEA27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81D-7686-4E40-A438-09807F6F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BDB-9604-4A86-AB67-C24BCB74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6A9-96A9-4AEC-B623-34F3F53F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AE40-43C9-4709-861A-8CDF8399F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Wolf, Democr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-33480" y="12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1219320" y="3124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Federalism important for state and local govern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Garrett Bull</cp:lastModifiedBy>
  <dcterms:modified xsi:type="dcterms:W3CDTF">2015-04-23T12:01:08Z</dcterms:modified>
  <cp:revision>59</cp:revision>
  <dc:subject/>
  <dc:title>No Slide Title</dc:title>
</cp:coreProperties>
</file>