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835-3024-436B-A4C5-549778992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4DFB-1DD7-44BD-B6E4-BA13036B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8CAC-3A09-40D5-B675-2871560E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866F-F791-4D17-90E8-9378E8B5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EF5B-EC21-4141-B22E-34C48195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6A8B-07B6-464D-8588-FD03741AA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5535-F801-4D4A-8B73-615FFD1B3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D94-E287-496E-A778-3C4182B9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62C-FC56-4AC2-98CC-351F618D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5ED-A882-4E1A-B800-93DC4BFF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1FA-11AC-4A8A-8BEF-0ED074F1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52F-7AF8-4B4E-A5F5-93556C7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274-BBCE-481D-A4A3-011462E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5D3-2835-4AB9-914D-3019981E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817-BDE1-4E24-AD1F-64A854C1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B93-9075-4421-8944-FA794634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509-8B3F-426F-8B13-66502F9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A15-2A8F-437B-983C-B14F3702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3E9-83A0-4C47-A001-34C3535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11AC-C29E-4DA6-AA9A-FB59BCF8E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Wolf, Democr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-33480" y="12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19320" y="3124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ederalism important for state and local govern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Garrett Bull</cp:lastModifiedBy>
  <dcterms:modified xsi:type="dcterms:W3CDTF">2015-04-23T12:01:08Z</dcterms:modified>
  <cp:revision>59</cp:revision>
  <dc:subject/>
  <dc:title>No Slide Title</dc:title>
</cp:coreProperties>
</file>