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A416-2132-48C5-937A-D89A27A63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F50D-87BE-437E-B67F-C460C1D41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76AC-A234-4F9F-948D-3678880A8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8B04-83B5-4ED5-929D-C811F68F1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7D0F-5AE1-46A4-AD6C-B90B418BA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9245-C0F8-4B59-9509-22662E82F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8D71-6FD0-44FD-B9C1-99F598550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C52-E13C-4E16-85B4-7B16744A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5DB0-12EE-4C41-BD4A-CFF59465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EB4-C90C-4314-9C70-756F9CC2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65A-EDB9-40CB-B681-A46044C7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633-040F-435E-9475-DCFC7AB5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E05-5E98-4A1A-B00C-256199F8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D64E-A4A7-475A-B3BF-D3F6FE57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43F0-38E6-4A41-B153-B119DED3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626-A822-4738-8D2F-219202EB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CE9-8634-40B4-9444-3B6A12B4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1CA9-9F26-4BBB-89F2-67AED847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1C36-FE51-4C18-BFFF-0F1877E8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C836-E851-4AAC-95E8-662FFAF6C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266688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imary cause of long state constitu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trust of govern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vice by which state constitutions are written or revis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al Conven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and state governments hold a ____ number of power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eat/Larg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law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dinan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19810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opposed because people often can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 use their property as intend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-1440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1981080" y="228600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example of a local law that affects yo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1447920" y="25909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eed Limits, Curfew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447920" y="2438280"/>
            <a:ext cx="6324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 live in the ____ PA legislative district and are represented by 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PA Hous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4th, Stan Saylo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380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constitutions are longer than the U.S. Constitution because…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09480" y="2286000"/>
            <a:ext cx="807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are able to be more specific for the needs of the State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citizens where as the U.S. Constitution must be flexible to fit needs of entire country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m length for state legislator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 or 4 yea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ficial responsible for interpreting state constitu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CDEHS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torney Gener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age requirement for PA House Representatives and PA Senato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1 &amp; 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666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government has many important roles due to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mers distrust of national government, 10th Amend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ocal or state plan for expenses is called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udge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1"/>
          <p:cNvSpPr/>
          <p:nvPr/>
        </p:nvSpPr>
        <p:spPr>
          <a:xfrm>
            <a:off x="533520" y="2666880"/>
            <a:ext cx="767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greatest source of state revenu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2895480" y="28195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ocal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Offi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ocal Offi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main weakness of county 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 central executive autho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rue of all counties in the U.S.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eated by St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457200" y="26668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s secure the interests of _________ while counties serve the interest of _____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idents/ Stat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termines if evidence warrants a tri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and Ju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termines which agencies receive money and how much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budg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widely used method for electing official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hief clerk and record keeper for the 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Secre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nning method used by cities to control lan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ars cases appealed from an appellate court for the st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Supreme Cou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day most state legislatures are thi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26668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camer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1181160" y="23194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any PA Representatives and PA Senators are the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609480" y="2819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03 Representatives &amp; 50 Sen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Vo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rocess allows citizens to directly impact law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Election, Referendum, Initiative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76320" y="2766960"/>
            <a:ext cx="899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is the age requirement and years of residency to be PA Govern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1"/>
          <p:cNvSpPr/>
          <p:nvPr/>
        </p:nvSpPr>
        <p:spPr>
          <a:xfrm>
            <a:off x="762120" y="2967120"/>
            <a:ext cx="74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0 years old and 7 year 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2514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PA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Governor and which political party currently holds power in PA governmen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m Wolf, Democr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dge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-33480" y="1260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Box 1"/>
          <p:cNvSpPr/>
          <p:nvPr/>
        </p:nvSpPr>
        <p:spPr>
          <a:xfrm>
            <a:off x="1219320" y="31240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Federalism important for state and local govern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219320" y="1371600"/>
            <a:ext cx="71625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90720" y="1752480"/>
            <a:ext cx="7391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takes the head of state government if the governor resig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t. Governo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undamental laws of each state are in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Garrett Bull</cp:lastModifiedBy>
  <dcterms:modified xsi:type="dcterms:W3CDTF">2015-04-23T12:01:08Z</dcterms:modified>
  <cp:revision>59</cp:revision>
  <dc:subject/>
  <dc:title>No Slide Title</dc:title>
</cp:coreProperties>
</file>