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75DD-F716-432F-9C02-B4C60E483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5E1F-848B-43A1-9086-33D1DB468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D39F-4A40-4296-8FCC-95666DC03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5263-8D99-484A-ADF3-E3E6E72D2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45D7-2C39-4E54-A6B0-126ADFCEF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0521-BC2B-4B91-9B09-82C9C6858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7E28-7B01-4AF0-A3DF-868899115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145-7C93-4462-B036-E2872CCE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B45-0804-4121-8A99-E3E73861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D98-F18A-48B9-916C-AAF06D74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F60-2239-4441-9E4D-00122511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F78-A557-4215-ABCC-99877ECF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3F2-87E0-47DF-BBFF-47E1565A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946-1065-4B84-941B-0ACFB958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C45-0712-4982-98AC-C31AFF25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640-B072-4679-8B1E-E59154D1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480-8822-41F6-815E-70BAC66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967-2957-45E9-8688-F1935D5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1D4-66AD-4DEF-9705-77949FA7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F3E2-A6D5-48CC-A2AF-1B44DBC41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ay a society uses scarce resources to satisfy its people’s unlimited wants is called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09680" y="3048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30481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croeconomics is the study of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y as a whole. World T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an individual who invents and markets a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reprene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nterprise that produces goods and services for profit is referred to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447920" y="1371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conomic system includes government ownership of the 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alism/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scribes a country who chooses to focus its production on a limited number of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ci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is type of tax, the rate increases as the income in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are the two tools that the government uses to influence the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ation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taining products that you can’t produce yourself is known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consumers benefit from im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ection of goods to increase and prices to de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will a lack of infrastructure affect a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2895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conomy will slow and not gr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true communism state, who controls and owns the factors of produc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munity, shared equally among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28195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nteractions between buyers and sellers driv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arket econom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make decisions in a mixed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ople, Government, and Tra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a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traditional economy, decisions are made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repeating trends of earlier gen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9718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scal policy is based o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44792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19810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tary policy is based on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447920" y="22860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ney supply and interest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fare, Medicare, and Unemployment are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i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nd, labor, and capital are all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decides what goods and services are produced in socialis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2286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purpose of a tari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ct domestic 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ss domestic product represent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tal outputs of goods in an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 Smith described a market economy that would be guided by competition and profit incentive known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600200" y="23623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ivisble H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236232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ecession is usually mark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, Stagnant wages, and reduction in s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evere recession in terms of magnitude and length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838080" y="25146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rise in price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decrease in pric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parative advantage theory states that goods can be produced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expensiv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hree ways can the government influence the econom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243828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describes when products are in short su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term used to describe the resources used to produc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44:43Z</dcterms:modified>
  <cp:revision>98</cp:revision>
  <dc:subject/>
  <dc:title>No Slide Title</dc:title>
</cp:coreProperties>
</file>