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EEA5-7490-4B17-AAD8-2ED81673B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1B8B-FDBF-4DE2-9B4C-6BFE9364B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0C32-2F90-465A-9B88-E1D823774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B1AF-FE0C-4E9B-96C4-59FD62527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A7BC-AF9E-403A-B9FB-2605C7E91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CFCF-A596-4DFB-A219-F444FD68F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5BA5-F789-4152-820B-4F07ED435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F94-7241-442D-81D2-3244BF7E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466-387E-4FCE-A50A-623F2B8E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A64-EE63-49D1-B273-8991A4CA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A76-4A5E-4693-B5B5-FF83CA9A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91E-BDA0-406A-B58D-A8BF4347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1D86-F997-4A70-9698-A5181E07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F2E9-DA7F-461A-93CD-5242092B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484-2B77-4A03-A9E2-9BF5F99D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034-2672-4601-B25A-FD16B596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A2A-D225-49D5-8EE2-2CD383A0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26E-BBF3-474F-8516-BB597B39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7ED-868B-4C18-ACE0-86E0AA8B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77EF-B323-448A-B3FE-58F808793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ay a society uses scarce resources to satisfy its people’s unlimited wants is called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209680" y="3048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133720" y="304812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croeconomics is the study of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y as a whole. World T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an individual who invents and markets a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treprene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nterprise that produces goods and services for profit is referred to a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447920" y="1371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economic system includes government ownership of the factors of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ialism/Commu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295280" y="175248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scribes a country who chooses to focus its production on a limited number of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ci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523880" y="25909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th this type of tax, the rate increases as the income incr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ressive 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are the two tools that the government uses to influence the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ation and Sp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btaining products that you can’t produce yourself is known a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y consumers benefit from impo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’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ection of goods to increase and prices to decr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will a lack of infrastructure affect a 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447920" y="28954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conomy will slow and not gr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 true communism state, who controls and owns the factors of produc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2952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mmunity, shared equally among th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43000" y="28195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nteractions between buyers and sellers driv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market econom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make decisions in a mixed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ople, Government, and Tra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c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acro &amp;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a traditional economy, decisions are made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repeating trends of earlier gen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85800" y="29718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scal policy is based on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447920" y="2743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es and sp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57200" y="26668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447920" y="198108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netary policy is based on th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447920" y="22860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ney supply and interest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447920" y="14479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lfare, Medicare, and Unemployment are examples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tit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nd, labor, and capital are all examples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ctors of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roup decides what goods and services are produced in socialist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066680" y="22860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purpose of a tari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ect domestic 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oss domestic product represent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tal outputs of goods in an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685800" y="266688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am Smith described a market economy that would be guided by competition and profit incentive known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600200" y="23623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ivisble H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905120" y="2362320"/>
            <a:ext cx="53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recession is usually marked by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employment, Stagnant wages, and reduction in s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914400" y="24382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evere recession in terms of magnitude and length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838080" y="251460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lation refers t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eneral rise in price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22860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lation refers t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eneral decrease in pric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mparative advantage theory states that goods can be produced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expensiv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Econom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hree ways can the government influence the econom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219320" y="243828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describes when products are in short sup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ar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e term used to describe the resources used to produce g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05-21T11:44:43Z</dcterms:modified>
  <cp:revision>98</cp:revision>
  <dc:subject/>
  <dc:title>No Slide Title</dc:title>
</cp:coreProperties>
</file>