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97A8-B63A-403D-BEE3-D63D329FB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A776-A578-436E-B791-94408C7AF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A97A-8955-4B15-8389-AC063E8C6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48DA-E315-4725-8653-C40FC184F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59EC-4952-4836-8955-FA4A4E5C3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DEE5-B5A2-4EC4-B985-F938E99C3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16C2-D2A2-4FA7-AF26-9C8857238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A98-33C7-4856-88D1-1203795C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2E4-5A67-4FDB-8EA5-8B36695D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AA4-DEB5-4B51-AF48-80673D4C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0F9-32E5-4886-A2DD-42EF2D7F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525-C1DD-4FE4-AB3A-9AAB4B2F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806-9FB7-4F26-8290-3B26219C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032-6C38-4482-9E31-DC837B1F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040-D471-476F-865E-E1BA3F78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706-E6A5-426D-BBA3-EF5627B8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B75-E692-461A-8A9E-095439B7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0FA-D1B8-409D-A54C-7604B2A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FD9-4972-4BDA-8260-DCA19E00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50D2-AF8F-465E-993E-723284E53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y a society uses scarce resources to satisfy its people’s unlimited wants is called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09680" y="3048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30481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croeconomics is the study of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y as a whole. World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an individual who invents and markets a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repren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nterprise that produces goods and services for profit is referred to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447920" y="1371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conomic system includes government ownership of the 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alism/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scribes a country who chooses to focus its production on a limited number of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ci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is type of tax, the rate increases as the income in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two tools that the government uses to influence the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ation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taining products that you can’t produce yourself is known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consumers benefit from im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ection of goods to increase and prices to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will a lack of infrastructure affect a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2895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conomy will slow and not gr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true communism state, who controls and owns the factors of produ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munity, shared equally among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28195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nteractions between buyers and sellers driv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rket econom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make decisions in a mixed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ople, Government, and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a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traditional economy, decisions are made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repeating trends of earlier gen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971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scal policy is based o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44792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19810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tary policy is based on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447920" y="22860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ney supply and interest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fare, Medicare, and Unemployment are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i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nd, labor, and capital are all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decides what goods and services are produced in socialis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2286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purpose of a tari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ct domestic 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ss domestic product represent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tal outputs of goods in an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 Smith described a market economy that would be guided by competition and profit incentive known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600200" y="23623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visble H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23623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ecession is usually mark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, Stagnant wages, and reduction in s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evere recession in terms of magnitude and length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38080" y="25146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rise in price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decrease in pric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parative advantage theory states that goods can be produced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expensiv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hree ways can the government influence the econom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243828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escribes when products are in short su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term used to describe the resources used to produc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44:43Z</dcterms:modified>
  <cp:revision>98</cp:revision>
  <dc:subject/>
  <dc:title>No Slide Title</dc:title>
</cp:coreProperties>
</file>