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028C-8413-42D5-9126-DE7DD727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E9F-852D-4D59-A530-A941F406D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A09-99CB-4C11-AB4B-ED340A48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34AE-686B-42A4-8FDD-E24D81FD5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0E80-7621-45FB-BD85-FDDB2E43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7184-6F55-4594-9C4B-2D9BF81E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A9B-BFE8-46B5-A6BE-EBF69265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0FA-8998-4D24-8A0E-B0A50431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AE7-1682-4A0A-ABCA-49C61990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F69-E7DD-4008-B1F6-06AF8219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525-E3E0-4961-B12F-B02F703D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778-489B-42FE-A64E-B66F8EB2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7B0-5732-4F48-9A70-5EF60082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8E6-3BB7-4228-9D8B-A0D5BD4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D1C-AE88-4181-808F-86A12C6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E3B-7178-4B28-8CD0-8550A79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D11-C05C-41A2-849B-97C2FAC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C26-15EF-4C08-939F-3E7FB31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FE5-83CE-44E7-809B-5848ED13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59C4-8A14-4CC2-B1DC-4458903E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y a society uses scarce resources to satisfy its people’s unlimited wants is called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0968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3048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croeconomics is the study of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y as a whole. World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individual who invents and market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repren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nterprise that produces goods and services for profit is referred to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447920" y="1371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conomic system includes government ownership of the 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ism/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scribes a country who chooses to focus its production on a limited number of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is type of tax, the rate increases as the income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two tools that the government uses to influence the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tion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taining products that you can’t produce yourself is known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consumers benefit from im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of goods to increase and prices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will a lack of infrastructure affect a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2895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conomy will slow and not gr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true communism state, who controls and owns the factors of produ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munity, shared equally among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28195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teractions between buyers and sellers driv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ket econom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make decisions in a mixed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ople, Government, and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traditional economy, decisions are made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repeating trends of earlier gen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971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cal policy is based o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44792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19810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tary policy is based on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22860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supply and interest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fare, Medicare, and Unemployment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nd, labor, and capital are all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decides what goods and services are produced in socialis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urpose of a tari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ct domestic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ss domestic product represent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tal outputs of goods in a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 Smith described a market economy that would be guided by competition and profit incentive know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6002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visble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cession is usually mark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, Stagnant wages, and reduction in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evere recession in terms of magnitude and length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rise in pri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decrease in pric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parative advantage theory states that goods can be produced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expensiv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ree ways can the government influence the ec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24382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escribes when products are in short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term used to describe the resources used to produc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44:43Z</dcterms:modified>
  <cp:revision>98</cp:revision>
  <dc:subject/>
  <dc:title>No Slide Title</dc:title>
</cp:coreProperties>
</file>