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6D9-FE7C-4AA5-860B-65669A70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410C-8AEE-49E9-B473-7B330158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3F86-6B9C-4439-9824-E157E6AB0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D47-9DD6-49B1-932A-72002D9A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720D-71B6-49EE-BDF6-F3101FF8A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93C-27DE-46F7-8302-E0891C37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74B-41DD-456B-AC70-D49E80A0C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796-8D55-446A-84B1-FD47AF90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064-FB6F-4851-A9EC-3852978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ED5-2D43-48D7-9060-0654C014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FBC-16B9-4D7F-ABBD-93F8BA69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DAD-C11D-447C-B278-CA96BEC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0F7-BFE9-4134-AE2D-AE6AD7AD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634-3050-4E30-BC69-A7A100E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8B1-68BE-4410-A1B1-A2D3B1A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1FC-ED26-4B5D-B99E-BAF141EA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B81-4517-4D61-9F5C-7CDC620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C2A-EBD1-4B25-A82E-C17AC3D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779-84FA-45D0-A52F-9F8C821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E847-6E1F-4002-A491-740BE865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ay a society uses scarce resources to satisfy its people’s unlimited wants is called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0968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30481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croeconomics is the study of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y as a whole. World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n individual who invents and markets a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repren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nterprise that produces goods and services for profit is referred to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447920" y="1371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economic system includes government ownership of the 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ialism/Commu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scribes a country who chooses to focus its production on a limited number of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5909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th this type of tax, the rate increases as the income in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essiv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two tools that the government uses to influence the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tion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taining products that you can’t produce yourself is known a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consumers benefit from im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of goods to increase and prices to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will a lack of infrastructure affect a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28954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conomy will slow and not gr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true communism state, who controls and owns the factors of produ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59092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munity, shared equally among th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28195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teractions between buyers and sellers driv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ket econom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make decisions in a mixed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ople, Government, and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traditional economy, decisions are made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repeating trends of earlier gen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971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cal policy is based on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447920" y="2743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 and sp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19810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tary policy is based on t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22860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supply and interest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fare, Medicare, and Unemployment are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nd, labor, and capital are all examples of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ctors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decides what goods and services are produced in socialis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286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urpose of a tari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ct domestic 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oss domestic product represent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tal outputs of goods in a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 Smith described a market economy that would be guided by competition and profit incentive know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6002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visble H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cession is usually mark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, Stagnant wages, and reduction in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14400" y="2438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evere recession in terms of magnitude and length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rise in pri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lation refers t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general decrease in pric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mparative advantage theory states that goods can be produced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expensiv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hree ways can the government influence the ec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24382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escribes when products are in short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term used to describe the resources used to produc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44:43Z</dcterms:modified>
  <cp:revision>98</cp:revision>
  <dc:subject/>
  <dc:title>No Slide Title</dc:title>
</cp:coreProperties>
</file>