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E279-2ACB-4694-9EBD-DC9F04E2D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B8D6-7628-4A3C-9FE9-B45DB330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FD51-278F-44D5-9237-809403E24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6DDC-70EB-4280-B91E-82E535C5B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0E9F-9321-4091-A45B-E04132E3A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7512-4600-4730-9DAC-D58384803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9B14-7013-4E49-AF55-7EA50CD9A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80B-4ECB-4A20-BB77-9A6A4700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E16-234C-4FB3-BBA2-335B81F4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6F5-4401-4A31-A6E8-BEB2F21C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E36-9071-487A-A90A-C03AA869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388-2286-4A0D-87B9-CF2E3C00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D92-8D97-4D23-81FE-C6AFDFDE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48C-F018-4504-B8CC-6E4EC882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E20-2B2E-4050-BB6D-97441B9F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3DB-7CC1-47DE-9D67-79C23E96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049-48A5-416C-B083-F69F795C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9D0-FE68-4D0E-85F5-2BB227A6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055-1A05-468C-9B9A-18ED018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3085-E3AB-494A-9AC9-BE58FB654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n a good prof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here is shortage, producers raise prices in an attempt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qualize quantity supplied and dema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86000" y="2286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236232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nefits of taking stock in a corporation is that the stock holders hav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mited liability to the comp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why suppliers often reduce pric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ause they have a surplus of pro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ers with higher quality/amounts of labor skills tend to d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rn higher w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371600" y="22096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 wage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ply and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of contracting with an outside company to provid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sour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6002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ads, highways, bridges, sewer system are examples of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ra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gold is so often used as mo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difference between saving and 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ments are more risky than sav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5146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can you help protect your investments from suffering large losses at o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6708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ersif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ndard of living measur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1828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dividual’s quality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supply increases the price of the product typically does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0574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16002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 refers to the percent of the labor force that is do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tively seeking em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en scarcity occ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and is greater than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i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emand increases, this group benefits m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6668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has the greatest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3880" y="23623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vidual 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213372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sole-proprietorship the owner do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219320" y="2590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ceives all profits, receives all losses, and bears all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fit refers to total revenue after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ment made for the use of borrowed money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3623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Apple makes 1,000 I-Phones and 5,000 people want them, the price of the phones is likely to be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19810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ock is a certificate represent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ared ownership of a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financial promise, gains interest regularly, and is repaid at a later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vestment option that uses cash from a pool of savers to buy a wide range of securiti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523880" y="28195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tual F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182880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onger you have the more risk you can take is a helpful guideline 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1676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90720" y="19810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is almost considered risk f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28954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buys goods or services and uses them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makes th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w of supply and demand is impact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 wants, prices, and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nterest rates impact individu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ly is defined as the willingness and ability of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umers to purchas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marketplace, producers are looking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39:33Z</dcterms:modified>
  <cp:revision>96</cp:revision>
  <dc:subject/>
  <dc:title>No Slide Title</dc:title>
</cp:coreProperties>
</file>