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1E3B-CD57-457C-B6B8-E437807E5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75F0-A8B2-4E18-9111-C22E3B55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1E6E-CCAA-4945-9077-E4D94DCF8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2F79-309E-48AA-8B59-908EDC368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BC43-8F49-4128-8E54-95C9AAFDA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C220-81CD-4344-B6DE-EB52C1A9E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08F3-9EEF-4321-B4D4-46F65657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FEA-4F1C-48DD-9AB7-6B379015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B4D-0C58-48C7-838A-CD8A6FDF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395-AFA6-430E-BCA5-671FF1E4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C12-544E-44EE-B369-1A7678CE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0CA-9EA8-4492-933A-39BCBBD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E58-8A74-43B2-B843-3130BFA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5C3-D008-47E5-BA44-A1E85E09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C06-D17B-44F8-B934-D495023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54E-2565-465A-A090-3FA137A5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582-36BD-4730-86A0-746D4A3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F24-1D0E-4108-9873-FA46E549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06D-197A-4055-89BD-E19AE56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64A-FD76-424D-B8FA-33FF76E14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n a good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re is shortage, producers raise prices in an attempt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alize quantity supplied and dema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23623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nefits of taking stock in a corporation is that the stock holders hav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ed liability to the comp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why suppliers often reduce pric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ause they have a surplus of 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ers with higher quality/amounts of labor skills tend to d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rn higher w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2096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 wag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ply and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contracting with an outside company to provid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ads, highways, bridges, sewer system are examples of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gold is so often used as mo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difference between saving and 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ments are more risky than sav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5146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you help protect your investments from suffering large losses at 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6708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ersif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dard of living measur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dividual’s quality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supply increases the price of the product typically do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0574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 refers to the percent of the labor force that is do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ly seeking 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n scarcity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and is greater than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i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emand increases, this group benefits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has the greatest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362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213372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sole-proprietorship the owner do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1932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ives all profits, receives all losses, and bears all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fit refers to total revenue after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made for the use of borrowed money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362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Apple makes 1,000 I-Phones and 5,000 people want them, the price of the phones is likely to be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19810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ock is a certificate represent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ared ownership of a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financial promise, gains interest regularly, and is repaid at a later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option that uses cash from a pool of savers to buy a wide range of securiti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523880" y="2819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tual F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182880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nger you have the more risk you can take is a helpful guideline 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90720" y="19810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is almost considered risk f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28954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buys goods or services and uses them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makes th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w of supply and demand is impact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 wants, prices, and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nterest rates impact individu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 is defined as the willingness and ability of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umers to purchas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marketplace, producers are looking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39:33Z</dcterms:modified>
  <cp:revision>96</cp:revision>
  <dc:subject/>
  <dc:title>No Slide Title</dc:title>
</cp:coreProperties>
</file>