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3AF1-0E74-45F0-9930-87050AC0F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D4F3-6D03-4FE2-80E5-A3EDE1276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4298-A7FC-4F28-B38B-D344EEA40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97A3-0861-491A-84E8-34498B262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8DF2-3E36-4CAD-88FB-F8E89846B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5BD3-3CF1-4CCD-BDD9-80CFF50A5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C043-7EAB-4CBA-AC82-C598059BD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6FC-E9B2-45E6-85AC-8C7F01D6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D32-4A9A-4373-B591-B5E42593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34C-824B-4AB4-AE00-48D87E1F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4DE-D9CE-4800-A1F6-897A1192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C1D-749D-450A-BE21-4FA65A75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832-AA6A-40A9-805B-BABE707C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D79-C487-4CE6-A047-D42D0BC9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AB4-43DF-49C8-BAB0-D9715EB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FE6-6C78-4922-BCB9-042A0131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050-9964-414D-BE7C-4D90DCC4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D62-058D-446B-8388-345456F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878-D73E-487A-946B-E235EB4C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7E0F-75D3-464B-96F7-755E62A72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n a good prof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here is shortage, producers raise prices in an attempt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qualize quantity supplied and dema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86000" y="2286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236232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nefits of taking stock in a corporation is that the stock holders hav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mited liability to the comp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why suppliers often reduce pric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ause they have a surplus of pro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ers with higher quality/amounts of labor skills tend to d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rn higher w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371600" y="22096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 wage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ply and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of contracting with an outside company to provid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sour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6002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ads, highways, bridges, sewer system are examples of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ra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gold is so often used as mo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difference between saving and 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ments are more risky than sav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5146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can you help protect your investments from suffering large losses at o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6708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ersif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ndard of living measur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1828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dividual’s quality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supply increases the price of the product typically does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0574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16002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 refers to the percent of the labor force that is do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tively seeking em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en scarcity occ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and is greater than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i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emand increases, this group benefits m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6668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has the greatest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3880" y="23623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vidual 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213372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sole-proprietorship the owner do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219320" y="2590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ceives all profits, receives all losses, and bears all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fit refers to total revenue after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ment made for the use of borrowed money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3623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Apple makes 1,000 I-Phones and 5,000 people want them, the price of the phones is likely to be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19810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ock is a certificate represent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ared ownership of a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financial promise, gains interest regularly, and is repaid at a later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vestment option that uses cash from a pool of savers to buy a wide range of securiti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523880" y="28195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tual F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182880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onger you have the more risk you can take is a helpful guideline 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1676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90720" y="19810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is almost considered risk f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28954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buys goods or services and uses them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makes th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w of supply and demand is impact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 wants, prices, and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nterest rates impact individu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ly is defined as the willingness and ability of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umers to purchas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marketplace, producers are looking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39:33Z</dcterms:modified>
  <cp:revision>96</cp:revision>
  <dc:subject/>
  <dc:title>No Slide Title</dc:title>
</cp:coreProperties>
</file>