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8973-F15F-4827-BA4E-B44D12CA9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0AFC-E095-45AD-9DE2-554172B54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9326-564C-4409-A34C-1A559D950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B542-4A2E-4ED1-ADBB-6E90C335F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8D92-6A71-4895-9F1C-75D5FCC38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000D-F4FD-4C16-A0B4-AC0A400B9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CE91-3E9C-45A8-BB78-E739CA173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B992-80C9-44BC-B61C-EA17F4423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42D0-5B78-4D75-9CE9-A003B35C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891A-8992-46D9-B843-A86C6A00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3497-3948-46BB-BE42-CF396C06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7D9A-0BE9-474C-A87E-F5C9CF5A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44F1-E158-467E-BE97-449DB45C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49D6-3BA7-4433-85CC-1419DC63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89AA-DC34-4B4A-AB07-9EAC76E2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5BDF-CCC0-4119-A324-6A7AE4E0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9F10-D7C3-4FA4-824F-C18FE99B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C5F4-E743-443B-93FF-B7D8399D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6BA3-5AC0-4D80-9A6B-0857A3BF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3E45-21BC-4777-B18A-149826593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rn a good prof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there is shortage, producers raise prices in an attempt to do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qualize quantity supplied and deman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286000" y="22860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2133720" y="2362320"/>
            <a:ext cx="548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benefits of taking stock in a corporation is that the stock holders have th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imited liability to the compa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why suppliers often reduce prices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cause they have a surplus of produ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orkers with higher quality/amounts of labor skills tend to do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rn higher w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1371600" y="22096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determine wage r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pply and dem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295280" y="175248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ocess of contracting with an outside company to provide goods or services is called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utsourc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600200" y="22860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oads, highways, bridges, sewer system are examples of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fra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838080" y="2666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why gold is so often used as mon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car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difference between saving and inves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vestments are more risky than sav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371600" y="251460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can you help protect your investments from suffering large losses at o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’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26708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 </a:t>
            </a: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versif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371600" y="26668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ndard of living measure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447920" y="18288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individual’s quality of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 supply increases the price of the product typically does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295280" y="205740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cre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143000" y="1600200"/>
            <a:ext cx="6781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employment refers to the percent of the labor force that is doing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ctively seeking employ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when scarcity occu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mand is greater than supp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icro 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icro Conce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Micro &amp; Gover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76212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demand increases, this group benefits m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duc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685800" y="26668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nvestment has the greatest ris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523880" y="236232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dividual sto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457200" y="2666880"/>
            <a:ext cx="7238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447920" y="2133720"/>
            <a:ext cx="624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a sole-proprietorship the owner doe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219320" y="25909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ceives all profits, receives all losses, and bears all ris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447920" y="14479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fit refers to total revenue after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371600" y="26668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yment made for the use of borrowed money is called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er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36232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Apple makes 1,000 I-Phones and 5,000 people want them, the price of the phones is likely to be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143000" y="19810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stock is a certificate representing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hared ownership of a comp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609480" y="2666880"/>
            <a:ext cx="7696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a financial promise, gains interest regularly, and is repaid at a later 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o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685800" y="266688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investment option that uses cash from a pool of savers to buy a wide range of securities is called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523880" y="281952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utual F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1905120" y="1828800"/>
            <a:ext cx="5333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longer you have the more risk you can take is a helpful guideline for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1447920" y="16765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ves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990720" y="198108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nvestment is almost considered risk f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overnment Bo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pen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609480" y="28954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e who buys goods or services and uses them is called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um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228600" y="26668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e who makes the goods or services is called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duc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371600" y="2514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law of supply and demand is impacted by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371600" y="2514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umer wants, prices, and compet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Econom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1143000" y="167652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nterest rates impact individu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219320" y="1371600"/>
            <a:ext cx="7162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swers will v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pply is defined as the willingness and ability of th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sumers to purchase go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the marketplace, producers are looking to do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2-05-21T11:39:33Z</dcterms:modified>
  <cp:revision>96</cp:revision>
  <dc:subject/>
  <dc:title>No Slide Title</dc:title>
</cp:coreProperties>
</file>