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EDAE-8737-4DCD-8A9D-B6B338ED8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29B8-641D-48DF-AF80-9FC8CEDEF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6C2A-AE7F-45E9-B3CF-9EB2CC36C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E14A-E726-43F7-80F5-CD6E9526E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0065-BB86-4841-9010-234867C28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9818-BB8C-43AE-8CC1-92D28228F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7F3B-F1BA-45AB-94BB-6CA0E3B31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57B-EDBE-4C49-9D18-75FD7282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22F-EAA2-4FDE-BF6C-07338333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8A4-B762-48AB-AEBC-AA681D77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243-5E64-4F53-AADF-930771D1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7BE-9CDB-4F5E-B284-B6E851E7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FFF-1738-4255-9A3A-ED14B139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6CD-FE0B-49CF-A71A-5A2C14CE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B24-4DA6-4695-A7E1-7858E35A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EDF-67C4-4828-AF14-B523A957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AA3-9ED0-4EDD-B9CC-62B6BF21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385-C9A5-4E79-B9FB-10FCED37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D84-8A03-4A69-9F58-6A84A81B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486D-4E62-443F-8408-194A0A349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n a good prof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there is shortage, producers raise prices in an attempt to do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qualize quantity supplied and deman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286000" y="22860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133720" y="236232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enefits of taking stock in a corporation is that the stock holders have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mited liability to the comp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why suppliers often reduce pric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cause they have a surplus of produ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rkers with higher quality/amounts of labor skills tend to d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rn higher w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371600" y="22096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 wage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ply and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295280" y="175248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of contracting with an outside company to provide goods or servic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utsour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600200" y="2286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ads, highways, bridges, sewer system are examples of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ra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y gold is so often used as mon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car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difference between saving and inv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estments are more risky than sav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25146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can you help protect your investments from suffering large losses at o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’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6708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ersif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ndard of living measur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447920" y="18288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ndividual’s quality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supply increases the price of the product typically does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295280" y="20574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r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43000" y="160020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employment refers to the percent of the labor force that is doing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tively seeking em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en scarcity occ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and is greater than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cro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cro 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icro &amp;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demand increases, this group benefits m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duc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85800" y="26668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nvestment has the greatest ri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523880" y="23623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ividual st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7200" y="26668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447920" y="213372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a sole-proprietorship the owner do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219320" y="2590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ceives all profits, receives all losses, and bears all ri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447920" y="1447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fit refers to total revenue after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yment made for the use of borrowed money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3623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Apple makes 1,000 I-Phones and 5,000 people want them, the price of the phones is likely to be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143000" y="19810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tock is a certificate representing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hared ownership of a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09480" y="266688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 financial promise, gains interest regularly, and is repaid at a later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685800" y="2666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nvestment option that uses cash from a pool of savers to buy a wide range of securiti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523880" y="28195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tual F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905120" y="1828800"/>
            <a:ext cx="53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onger you have the more risk you can take is a helpful guideline 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1676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990720" y="19810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nvestment is almost considered risk f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9480" y="28954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who buys goods or services and uses them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who makes the goods or servic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aw of supply and demand is impacted by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umer wants, prices, and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Econom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143000" y="167652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nterest rates impact individu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pply is defined as the willingness and ability of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umers to purchase 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marketplace, producers are looking to do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05-21T11:39:33Z</dcterms:modified>
  <cp:revision>96</cp:revision>
  <dc:subject/>
  <dc:title>No Slide Title</dc:title>
</cp:coreProperties>
</file>