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2199-69EC-4ABE-AD40-FB72F865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0EEF-6AC4-4848-A634-F7BCC133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56D-3DFA-454D-AE91-34AEF1DBC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BFC-22A2-41FE-8624-C981C3DE7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0B93-9EA6-4979-96A5-6148555D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2E8-A9B2-4F7F-B70E-1F29FE229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B38A-9BDF-4652-99F2-A609EF92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73D-6E31-4BF3-89B7-5BDC57D8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0CD-268C-400C-AD45-BA8DFEA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E1E-16F3-4321-9F4C-3CDC640C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6CA-D2EB-4F88-A897-C3C0F233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071-597F-41FA-89B7-972C3C60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629-83F1-4F40-8A79-5656600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789-B696-4352-81AD-0B035B5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DF2-3ED9-4AE4-88A2-D8FB283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113-B0AC-4EFD-9C89-104CF8F3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8EF-4947-4EB9-9A7C-3BA13EC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DB-0076-42D7-B3F1-4F3DFA4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7B0-ED42-40C5-89E7-3D1586E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390-10CB-40F2-88C9-2B0674945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Corbett, Republica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5-01T11:48:40Z</dcterms:modified>
  <cp:revision>58</cp:revision>
  <dc:subject/>
  <dc:title>No Slide Title</dc:title>
</cp:coreProperties>
</file>