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7939-3FBD-447E-B714-8EC98BDC1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A79C-D6E2-43E0-BA7A-94DEE9DA6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F857-D07E-4A27-9A4E-C003EE0CD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A58E-97BB-49B9-B021-27287217A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C84D-6EA3-4F39-B7CF-F2D502A2D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F880-CB78-477F-8848-349A0CE78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C9D3-042F-41CC-9F21-212583710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4CB-E3DE-4312-B0DE-AB54A6C2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23A-0845-453D-956F-45262A1A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DA9-FC56-4ABA-825C-262EBD79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E8A-B03E-40AC-81D9-1EC90F9A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DF8-466A-4C59-BB53-24894EC6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895-B6AA-4408-AFF9-17CA408B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4F0-7235-47BE-B52A-65BFAD0E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CD6-B7E6-461F-A7A7-408DAD97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7D5-9B6C-4940-A0F9-820B2671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222-1ACC-4809-A1A6-AE507BE6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099-D188-453A-9738-F7CF113A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1BE-D3AE-4B42-B984-730DEB62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D69E-DE5B-46F3-AD1E-06D53D8EB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mary cause of lo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ust of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vice by which state constitutions are written or revi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al Conven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and state governments hold a ____ number of pow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/Lar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law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din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opposed because people often can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use their property as inten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-1440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981080" y="228600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xample of a local law that affects yo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1447920" y="2590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ed Limits, Curfew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447920" y="24382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live in the ____ PA legislative district and are represented by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PA Hous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4th, Stan Sayl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s are longer than the U.S. Constitution because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09480" y="22860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are able to be more specific for the needs of the Stat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citizens where as the U.S. Constitution must be flexible to fit needs of entire countr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 length for state legislat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or 4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ficial responsible for interpreti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Gen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ge requirement for PA House Representatives and PA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1 &amp;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 has many important roles due to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mers distrust of national government, 10th Amend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cal or state plan for expenses is calle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533520" y="2666880"/>
            <a:ext cx="76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source of state revenu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2895480" y="2819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ain weakness of county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central executive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rue of all counties in the U.S.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d by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57200" y="26668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s secure the interests of _________ while counties serve the interest of 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idents/ Sta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termines if evidence warrants a tri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and J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which agencies receive money and how muc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bud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widely used method for electing official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ef clerk and record keeper for the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ecre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ning method used by cities to control lan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ars cases appealed from an appellate court for the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most state legislatures are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1181160" y="23194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PA Representatives and PA Senators are t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09480" y="2819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3 Representatives &amp; 5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Vo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rocess allows citizens to directly impact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Election, Referendum, Initiative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76320" y="276696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is the age requirement and years of residency to be PA Govern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762120" y="2967120"/>
            <a:ext cx="74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0 years old and 7 year 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PA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Governor and which political party currently holds power in PA governm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Corbett, Republican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dge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0720" y="1752480"/>
            <a:ext cx="7391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takes the head of state government if the governor resig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t. Govern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ndamental laws of each state are in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3-05-01T11:48:40Z</dcterms:modified>
  <cp:revision>58</cp:revision>
  <dc:subject/>
  <dc:title>No Slide Title</dc:title>
</cp:coreProperties>
</file>