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A475-208E-472A-83E1-BC0944517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2A67-3484-4937-829C-383EFB6B7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613A-F9CC-4250-88A6-FFC1BC9F8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6F5F-2546-4F08-8561-CB8DC2235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CC63-3019-46FE-B911-BB8829817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C06B-E21F-477B-BC16-A6CB99F06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CFC0-C87B-441B-B825-7BF874C0E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9C1-84BA-4796-B9B1-AD729520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C02-A9FD-471E-9F4D-743BE29A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C8D-D87A-4FF4-A124-BEF73007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135-2197-4256-941A-EF11828F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71F-A62E-4BB0-BF55-728F5FEE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C775-56D2-43C4-ADF2-1DE48E0C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B2B-90DE-447E-96D1-F8FD47EA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50C1-AA77-42AA-B75F-555A4FED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E080-3025-4944-A9D5-B9D2F986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8A9-A804-4F1D-BD04-85E5D04D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B5A1-E6C2-457F-8761-52E40474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0B3-8AFC-4147-A15B-8418DDD1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DDF1-38B6-4B4B-8BCF-DDF0DEDBC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71600" y="26668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imary cause of lo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trust of govern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vice by which state constitutions are written or revis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onal Conven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and state governments hold a ____ number of power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eat/Larg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law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din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19810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opposed because people often can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 use their property as intende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-1440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1981080" y="228600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example of a local law that affects yo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1447920" y="2590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eed Limits, Curfew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447920" y="2438280"/>
            <a:ext cx="6324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 live in the ____ PA legislative district and are represented by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PA Hous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4th, Stan Sayl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666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constitutions are longer than the U.S. Constitution because…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09480" y="22860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are able to be more specific for the needs of the State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citizens where as the U.S. Constitution must be flexible to fit needs of entire country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rm length for state legislator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 or 4 ye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ficial responsible for interpreting state constitu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lcome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testants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11430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oday</a:t>
            </a:r>
            <a:r>
              <a:rPr b="0" lang="ja-JP" sz="60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609480" y="4191120"/>
            <a:ext cx="7953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CDEHS Government Clas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orney Gener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age requirement for PA House Representatives and PA Senato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1 &amp;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666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government has many important roles due to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mers distrust of national government, 10th Amendm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ocal or state plan for expenses is called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udge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533520" y="2666880"/>
            <a:ext cx="767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greatest source of state revenu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2895480" y="2819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cal Offi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main weakness of county govern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 central executive autho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26668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rue of all counties in the U.S.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eated by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457200" y="26668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s secure the interests of _________ while counties serve the interest of __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idents/ Stat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termines if evidence warrants a tri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and Ju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etermines which agencies receive money and how much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budg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widely used method for electing official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hief clerk and record keeper for the 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ecre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09480" y="2666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ning method used by cities to control lan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85800" y="26668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ars cases appealed from an appellate court for the stat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 Supreme Cou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day most state legislatures are thi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666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camera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1181160" y="23194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PA Representatives and PA Senators are the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609480" y="2819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03 Representatives &amp; 50 Sen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Vo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26668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rocess allows citizens to directly impact law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pular Election, Referendum, Initiative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76320" y="2766960"/>
            <a:ext cx="899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is the age requirement and years of residency to be PA Govern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762120" y="2967120"/>
            <a:ext cx="74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0 years old and 7 year 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PA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 Governor and which political party currently holds power in PA government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m Corbett, Republican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dge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1371600"/>
            <a:ext cx="7162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swers Will V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90720" y="1752480"/>
            <a:ext cx="7391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takes the head of state government if the governor resig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t. Govern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undamental laws of each state are in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LASD ED CENTER</cp:lastModifiedBy>
  <dcterms:modified xsi:type="dcterms:W3CDTF">2013-05-01T11:48:40Z</dcterms:modified>
  <cp:revision>58</cp:revision>
  <dc:subject/>
  <dc:title>No Slide Title</dc:title>
</cp:coreProperties>
</file>