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A94F-6354-40DA-841E-683B93BD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C59-5B25-43BE-8E57-E388A5FD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521-D9B0-4EAD-AE00-F25DB516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219F-4D87-4C16-BAFA-58D11C06E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AF7-7038-4D58-8607-ADC649AB4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397-34C5-4B7C-8C49-FDC2B456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1FC-9BD1-4D05-90DD-EFC2AB64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9E7-5654-4142-9868-1E49C4F4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B3F-89F3-48D9-9623-BAF446E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C8F-F5FE-4158-83C3-E2B3AC3C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12B-9DF6-4298-9806-6D7304B9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7A4-ACCE-4A6B-84B0-3492ED06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B58-8D84-4887-B38F-BA94896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384-54E6-473D-B091-CECA3B0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FFC-AF59-4265-826C-2B46999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10A-83B1-48AF-BF95-C284D1DB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AAC-CD9D-437D-8973-8C0AD0E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DA2-30AD-4FD3-9300-D65187F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EBD-487B-4131-9F9C-6D0DFCE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414-BBA7-46F1-A643-23B12EE7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Corbett, Republica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5-01T11:48:40Z</dcterms:modified>
  <cp:revision>58</cp:revision>
  <dc:subject/>
  <dc:title>No Slide Title</dc:title>
</cp:coreProperties>
</file>